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525000" cy="6477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7BDE-2D2B-483D-9843-E4107DD8B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8096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14240" y="4141800"/>
            <a:ext cx="8096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1E8A-AA59-4E7A-8943-E89A9962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63240" y="237456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14240" y="414180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63240" y="414180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2253-0B5E-46FF-B218-8E9E0D2C2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260676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51680" y="2374560"/>
            <a:ext cx="260676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9120" y="2374560"/>
            <a:ext cx="260676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14240" y="4141800"/>
            <a:ext cx="260676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51680" y="4141800"/>
            <a:ext cx="260676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9120" y="4141800"/>
            <a:ext cx="260676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6BFC-1E93-4D6B-9823-184385833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14240" y="2374560"/>
            <a:ext cx="80964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019F-C417-46FD-9B2F-B3D15251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8096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E30B-0437-4781-B4EB-BD950670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3951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63240" y="2374560"/>
            <a:ext cx="3951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C29E-CEBE-4C62-891C-F8FE9168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245E-EE73-43B3-8190-BC1BC47B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14240" y="1079640"/>
            <a:ext cx="809640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A8C3-3116-4344-91AE-8649C724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63240" y="2374560"/>
            <a:ext cx="3951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14240" y="414180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66F1-3590-4457-B17E-DD1A8104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3951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63240" y="237456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63240" y="414180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EFAF-0931-4516-8563-A154749D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63240" y="237456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14240" y="4141800"/>
            <a:ext cx="8096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1431-EBAD-4500-AEAD-A902C3FD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4240" y="2374560"/>
            <a:ext cx="8096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3880" y="5900400"/>
            <a:ext cx="19846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54400" y="5900400"/>
            <a:ext cx="3016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6320" y="5900400"/>
            <a:ext cx="19843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9EE7-2683-4997-9A2E-BBA14EA063A7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763560"/>
            <a:ext cx="476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400" y="28584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elmérés az internet-használók köré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imes New Roman"/>
              </a:rPr>
              <a:t>A felmérésben résztvevő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8096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özépiskolás diák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őiskolások, egyetemistá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ellemi foglalkozású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imes New Roman"/>
              </a:rPr>
              <a:t>Az internetet rendszeresen használó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66560" y="2519280"/>
          <a:ext cx="2926080" cy="25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519280"/>
                    <a:ext cx="2926080" cy="25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3433680" y="2519280"/>
          <a:ext cx="2925720" cy="254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33680" y="2519280"/>
                    <a:ext cx="2925720" cy="25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6450120" y="2519280"/>
          <a:ext cx="2925720" cy="2543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50120" y="2519280"/>
                    <a:ext cx="2925720" cy="25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4444920" y="5456160"/>
            <a:ext cx="317520" cy="289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44920" y="5024520"/>
            <a:ext cx="317520" cy="28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63160" y="49528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63160" y="53848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imes New Roman"/>
              </a:rPr>
              <a:t>Naponta a hálózaton töltött idő az internetezők körébe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14240" y="2374920"/>
          <a:ext cx="8096400" cy="33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2374920"/>
                    <a:ext cx="8096400" cy="33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imes New Roman"/>
              </a:rPr>
              <a:t>Előrejelzése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4114800"/>
            <a:ext cx="3505320" cy="1523880"/>
          </a:xfrm>
          <a:prstGeom prst="rightArrow">
            <a:avLst>
              <a:gd name="adj1" fmla="val 37704"/>
              <a:gd name="adj2" fmla="val 63523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7:42:55Z</dcterms:created>
  <dc:creator>.</dc:creator>
  <dc:description/>
  <dc:language>en-US</dc:language>
  <cp:lastModifiedBy>.</cp:lastModifiedBy>
  <dcterms:modified xsi:type="dcterms:W3CDTF">2003-05-25T15:48:40Z</dcterms:modified>
  <cp:revision>9</cp:revision>
  <dc:subject/>
  <dc:title>A felmérésben résztvevők</dc:title>
</cp:coreProperties>
</file>