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525000" cy="647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4F0-D851-4FE6-B63B-7CECDCBE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14240" y="414180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ACE-BBD8-4FE0-AAA8-D9ACE381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F3A-CDDE-4910-872A-84AC6861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5168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912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1424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5168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912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9D9-9179-456A-BCA2-6FAC4964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BCA-98EA-478C-96E2-415EFDEA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1EE-EFE7-466F-A2CF-A8B00D66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848-1F85-45AD-AFFD-D443D54B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68D-567E-4B2A-A8C3-9EBAC480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14240" y="1079640"/>
            <a:ext cx="809640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B61-D0D1-4B13-996A-6809363D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06B-F21F-4D36-85FE-0D44F400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674-E924-4BE9-B660-29EF3FE0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DE3-5A60-4637-8A8C-2CD814C2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3880" y="5900400"/>
            <a:ext cx="19846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4400" y="5900400"/>
            <a:ext cx="3016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6320" y="5900400"/>
            <a:ext cx="1984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ADEF-F795-4F99-8A09-343B23A48B3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3560"/>
            <a:ext cx="476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00" y="2858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mérés az internet-használók köré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A felmérésben résztvevő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özépiskolás diák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őiskolások, egyetemist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llemi foglalkozású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Az internetet rendszeresen használó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6560" y="2519280"/>
          <a:ext cx="2926080" cy="25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519280"/>
                    <a:ext cx="292608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433680" y="2519280"/>
          <a:ext cx="2925720" cy="25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3680" y="2519280"/>
                    <a:ext cx="292572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450120" y="2519280"/>
          <a:ext cx="2925720" cy="254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50120" y="2519280"/>
                    <a:ext cx="292572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444920" y="5456160"/>
            <a:ext cx="317520" cy="289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44920" y="5024520"/>
            <a:ext cx="31752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63160" y="4952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63160" y="5384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Naponta a hálózaton töltött idő az internetezők köréb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14240" y="2374920"/>
          <a:ext cx="809640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2374920"/>
                    <a:ext cx="809640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Előrejelzés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14800"/>
            <a:ext cx="3505320" cy="1523880"/>
          </a:xfrm>
          <a:prstGeom prst="rightArrow">
            <a:avLst>
              <a:gd name="adj1" fmla="val 37704"/>
              <a:gd name="adj2" fmla="val 6352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7:42:55Z</dcterms:created>
  <dc:creator>.</dc:creator>
  <dc:description/>
  <dc:language>en-US</dc:language>
  <cp:lastModifiedBy>.</cp:lastModifiedBy>
  <dcterms:modified xsi:type="dcterms:W3CDTF">2003-05-25T15:48:23Z</dcterms:modified>
  <cp:revision>9</cp:revision>
  <dc:subject/>
  <dc:title>A felmérésben résztvevők</dc:title>
</cp:coreProperties>
</file>