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525000" cy="647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AA1-793E-470A-8947-B0D39E47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534-C5AF-4699-B272-B60C8F72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E17-85A9-488C-8BA4-955FA9EA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168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912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1424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168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912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3A8-89BC-415A-8BC6-18D1AD80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FC4-2F54-4D78-8C4D-B3403F89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E8F-0D2B-43FC-BA4D-EEED1F1E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6F9-1DE7-4A0C-ACC1-C79D4F7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3A8-C16C-40E6-B1C6-64592169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4240" y="1079640"/>
            <a:ext cx="80964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240-8A6E-4D62-8EB1-177DD5A2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041-4744-4BFA-B2BE-3C69C04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F69-6308-4611-9412-6B1FF358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DD6-1C25-4713-AE8F-17C2FE2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5900400"/>
            <a:ext cx="1984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5900400"/>
            <a:ext cx="3016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5900400"/>
            <a:ext cx="1984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7DE3-C8E2-4430-96FA-D8F1B4358D3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47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00" y="2858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mérés az internet-használók kör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 felmérésben résztvevő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zépiskolás diák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őiskolások, egyetemist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llemi foglalkozású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z internetet rendszeresen használó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6560" y="2519280"/>
          <a:ext cx="29260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519280"/>
                    <a:ext cx="29260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433680" y="2519280"/>
          <a:ext cx="2925720" cy="25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368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450120" y="2519280"/>
          <a:ext cx="2925720" cy="25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5012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44920" y="5456160"/>
            <a:ext cx="317520" cy="289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44920" y="5024520"/>
            <a:ext cx="31752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3160" y="4952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63160" y="5384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Naponta a hálózaton töltött idő az internetezők köréb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14240" y="2374920"/>
          <a:ext cx="80964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374920"/>
                    <a:ext cx="80964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Előrejelzés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14800"/>
            <a:ext cx="3505320" cy="1523880"/>
          </a:xfrm>
          <a:prstGeom prst="rightArrow">
            <a:avLst>
              <a:gd name="adj1" fmla="val 37704"/>
              <a:gd name="adj2" fmla="val 6352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7:42:55Z</dcterms:created>
  <dc:creator>.</dc:creator>
  <dc:description/>
  <dc:language>en-US</dc:language>
  <cp:lastModifiedBy>.</cp:lastModifiedBy>
  <dcterms:modified xsi:type="dcterms:W3CDTF">2003-05-25T15:50:54Z</dcterms:modified>
  <cp:revision>9</cp:revision>
  <dc:subject/>
  <dc:title>A felmérésben résztvevők</dc:title>
</cp:coreProperties>
</file>