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7B5-614A-4D2A-B81C-E7D563EA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879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80-481F-4C84-936C-CFE740E3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B89-7DAF-441F-AC03-ADC8E89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879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0A9-2DB2-49C7-84FF-0BA4C959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445-DA5F-4F94-8369-29223A3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84E-9E40-4547-B691-43F4BFB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702-1304-43C7-A664-2DD8494D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127-2EA5-4F55-8ABF-FC21DF37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938-3543-4A44-8AA1-5878E63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11F-41B6-4BC1-8B68-4EFD7DB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879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EA6-DD9B-439F-BD57-DFC806A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879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3AA-A274-4249-9955-3916844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86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262-7CAC-4B9E-89FE-C77E31B9BDFD}" type="slidenum">
              <a:rPr b="0" lang="en-US" sz="1400" spc="-1" strike="noStrike">
                <a:solidFill>
                  <a:srgbClr val="cc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4960" y="304920"/>
            <a:ext cx="34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99"/>
                </a:solidFill>
                <a:latin typeface="Arial"/>
              </a:rPr>
              <a:t>XXX Lt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9000" y="457200"/>
            <a:ext cx="19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villamos megszakító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generátor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iztosíték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3200400"/>
          <a:ext cx="7985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00400"/>
                    <a:ext cx="7985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éhány információ vállalatunkró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olgozóink létszáma 1940 f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SO 9001 minőségi tanúsít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xportszerződés a világ 26 ország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cc9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kedvező szállítási felté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gbízható technológia, biztos jövő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4876560"/>
            <a:ext cx="1523880" cy="1600560"/>
            <a:chOff x="533520" y="4876560"/>
            <a:chExt cx="1523880" cy="1600560"/>
          </a:xfrm>
        </p:grpSpPr>
        <p:sp>
          <p:nvSpPr>
            <p:cNvPr id="52" name=""/>
            <p:cNvSpPr/>
            <p:nvPr/>
          </p:nvSpPr>
          <p:spPr>
            <a:xfrm flipV="1">
              <a:off x="1295280" y="4876200"/>
              <a:ext cx="762120" cy="144756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252720 h 1447560"/>
                <a:gd name="textAreaBottom" fmla="*/ 10490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533520" y="5029200"/>
              <a:ext cx="761760" cy="144792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253440 h 1447920"/>
                <a:gd name="textAreaBottom" fmla="*/ 1049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7:52:41Z</dcterms:created>
  <dc:creator>.</dc:creator>
  <dc:description/>
  <dc:language>en-US</dc:language>
  <cp:lastModifiedBy>.</cp:lastModifiedBy>
  <dcterms:modified xsi:type="dcterms:W3CDTF">2003-05-25T16:11:19Z</dcterms:modified>
  <cp:revision>17</cp:revision>
  <dc:subject/>
  <dc:title>PowerPoint bemutató</dc:title>
</cp:coreProperties>
</file>