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852-0D5D-47C7-B47E-AB8C805E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879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D26-DBE6-481B-8973-2EDDE952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866-D2DF-4AAF-8BA4-E8A5D97D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3048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3048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879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879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879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1DD-AB40-415D-AD41-7B5208FB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EA9-FC9C-4082-8844-E7655D06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237-EA9A-4D58-BF98-DB2788C6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5E7-6996-4633-BA32-0F15173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0F9-8AD6-4FD1-A0A6-BFC89CC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470-DE26-4322-A4D6-E563E351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517-D85C-4262-B2F9-878FC1F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E4D-5F1D-4FD5-9C6F-1409EBD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879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535-B436-45D7-BB1D-AE941E8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286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15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DF49-9F0E-4CD9-A924-F8D7FB05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4960" y="304920"/>
            <a:ext cx="34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99"/>
                </a:solidFill>
                <a:latin typeface="Arial"/>
              </a:rPr>
              <a:t>XXX Lt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9000" y="457200"/>
            <a:ext cx="19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llamos megszakító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átor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ztosíték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3352680"/>
          <a:ext cx="794700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94700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éhány információ vállalatunkró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olgozóink létszáma 1940 f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SO 9001 minőségi tanúsít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xportszerződés a világ 26 országá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kedvező szállítási feltét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gbízható technológia, biztos jövő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4876560"/>
            <a:ext cx="1523880" cy="1600560"/>
            <a:chOff x="533520" y="4876560"/>
            <a:chExt cx="1523880" cy="1600560"/>
          </a:xfrm>
        </p:grpSpPr>
        <p:sp>
          <p:nvSpPr>
            <p:cNvPr id="52" name=""/>
            <p:cNvSpPr/>
            <p:nvPr/>
          </p:nvSpPr>
          <p:spPr>
            <a:xfrm flipV="1">
              <a:off x="1295280" y="4876200"/>
              <a:ext cx="762120" cy="144756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252720 h 1447560"/>
                <a:gd name="textAreaBottom" fmla="*/ 10490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0800000">
              <a:off x="533520" y="5029200"/>
              <a:ext cx="761760" cy="144792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253440 h 1447920"/>
                <a:gd name="textAreaBottom" fmla="*/ 1049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7:52:41Z</dcterms:created>
  <dc:creator>.</dc:creator>
  <dc:description/>
  <dc:language>en-US</dc:language>
  <cp:lastModifiedBy>.</cp:lastModifiedBy>
  <dcterms:modified xsi:type="dcterms:W3CDTF">2003-05-25T16:17:43Z</dcterms:modified>
  <cp:revision>16</cp:revision>
  <dc:subject/>
  <dc:title>PowerPoint bemutató</dc:title>
</cp:coreProperties>
</file>