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4D1-39E2-47B8-BE0D-9EDFB80A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6468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DDF-A943-4CAC-BA2A-665CF35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05B-FF98-4B29-9DDE-6AF6812A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6468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37A-4C95-4F85-A119-8CE73C7E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081-22CC-462F-8D4B-B9509B1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C27-8350-4349-B256-085A8903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BB7-8FBA-486B-988B-BD50CBA6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FA3-340C-41EE-BE11-1ABDC26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87E-36C7-4E60-9236-3888EEE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15B-12A5-4C98-A51C-8A66A93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6468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B9A-5735-4D05-8E7D-08A6904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6468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AAA-7CFF-4FF4-81EC-C28A22E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82C-706D-4B9D-B5B3-6EB015A98F39}" type="slidenum"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70640" y="45864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Állattan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59436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101600" y="1569960"/>
          <a:ext cx="69375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569960"/>
                    <a:ext cx="69375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zben él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szóhóly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polty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ülső megtermékeny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lős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üket szőr bor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üdővel lélegez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llandó testhőmérsék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ső megtermékeny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9:42:51Z</dcterms:created>
  <dc:creator>.</dc:creator>
  <dc:description/>
  <dc:language>en-US</dc:language>
  <cp:lastModifiedBy>.</cp:lastModifiedBy>
  <dcterms:modified xsi:type="dcterms:W3CDTF">2003-05-25T16:34:13Z</dcterms:modified>
  <cp:revision>8</cp:revision>
  <dc:subject/>
  <dc:title>PowerPoint bemutató</dc:title>
</cp:coreProperties>
</file>