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A3F-9732-4C99-9A23-F408DF16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6468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A93-DC92-4457-84DC-136A851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6468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6468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8E4-6CAC-4AA3-A13A-2AF37F6F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6468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6468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6468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11F-D102-441C-848A-B29EC012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AB5-7476-4E0B-8638-279CE4CB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0A4-9056-494D-8315-C2D2C92D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FF9-3449-4474-AC3A-9A14BA0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220-AAED-4F12-A881-B49E292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01B-50DA-4872-A95F-19B24807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6468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1BA-2835-4161-81C5-0BEECBB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6468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D92-09C9-46F1-B18F-2C8D552D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6468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EDB-110A-49B8-9EF5-509D4786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B8C3-85DE-4E26-BF1F-A2DE0F50E47B}" type="slidenum"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70640" y="45864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Állattan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594360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101600" y="1569960"/>
          <a:ext cx="69375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569960"/>
                    <a:ext cx="69375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zben él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szóhóly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polty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ülső megtermékenyí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lősö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üket szőr borí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üdővel lélegez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llandó testhőmérsék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ső megtermékenyí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9:42:51Z</dcterms:created>
  <dc:creator>.</dc:creator>
  <dc:description/>
  <dc:language>en-US</dc:language>
  <cp:lastModifiedBy>.</cp:lastModifiedBy>
  <dcterms:modified xsi:type="dcterms:W3CDTF">2003-05-25T16:39:49Z</dcterms:modified>
  <cp:revision>7</cp:revision>
  <dc:subject/>
  <dc:title>PowerPoint bemutató</dc:title>
</cp:coreProperties>
</file>