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9D9-D069-4899-8DE8-CCBA7CA6D36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generációknál be kell mutatni a blokkvázlatot, a méretet, a sebességet, az árat, a programozást és az alkalmazási terület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A82-6119-4485-A20E-FC21C425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2680" y="378576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57B-FEC6-4DC9-BCF9-A2EC2E8C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0804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700-8B59-4E0F-B80D-59AB9D96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0480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6920" y="167652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5268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10480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856920" y="3785760"/>
            <a:ext cx="1668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81F-4AE1-4718-BF90-FEE49129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876-0164-4041-A488-512ED4AB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064-586A-4122-92F3-BA3AEBAA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FCA-5130-4400-AC90-983483A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CB6-CB5C-4686-8EE2-DCBD2AFD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52680" y="609480"/>
            <a:ext cx="510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2ED-1C91-42F6-8799-C5B4BDDA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F98-46A8-429B-BE3E-154A3CD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08040" y="378576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1A3-A798-499C-A86C-61FE73D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08040" y="1676520"/>
            <a:ext cx="252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52680" y="3785760"/>
            <a:ext cx="5181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1DB-5EA8-46AE-9E02-79CFDA2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EF74-BEBE-4591-BEB8-8C0CAFC4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0796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4148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7464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10816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2641680"/>
            <a:ext cx="4572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39080" y="396252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839080" y="449568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839080" y="502920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556272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839080" y="6095880"/>
            <a:ext cx="304920" cy="406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. gene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676520"/>
            <a:ext cx="609480" cy="3581280"/>
          </a:xfrm>
          <a:prstGeom prst="downArrow">
            <a:avLst>
              <a:gd name="adj1" fmla="val 59898"/>
              <a:gd name="adj2" fmla="val 4687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kstation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2776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4240" y="1992240"/>
          <a:ext cx="66355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992240"/>
                    <a:ext cx="66355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áttértárak csoportosítás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jlőd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 számítógép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féri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Háttértá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6:10:04Z</dcterms:created>
  <dc:creator>.</dc:creator>
  <dc:description/>
  <dc:language>en-US</dc:language>
  <cp:lastModifiedBy>.</cp:lastModifiedBy>
  <dcterms:modified xsi:type="dcterms:W3CDTF">2003-05-25T16:48:31Z</dcterms:modified>
  <cp:revision>11</cp:revision>
  <dc:subject/>
  <dc:title>PowerPoint bemutató</dc:title>
</cp:coreProperties>
</file>