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CA37-E398-4A16-B386-D7DBA1E423F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A generációknál be kell mutatni a blokkvázlatot, a méretet, a sebességet, az árat, a programozást és az alkalmazási terület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1E99-26A8-4BBD-952E-3BF329F3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181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2680" y="3785760"/>
            <a:ext cx="5181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04F-579A-448F-A7E0-36B3D063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0804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352680" y="378576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08040" y="378576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B19-D945-4D10-9978-8BE166AB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04800" y="167652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6920" y="167652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352680" y="378576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104800" y="378576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856920" y="378576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AC2-52C1-48AB-9225-BEC1C36A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352680" y="167652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C46-3B6F-400F-A034-E13CCE01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748-E0A9-4687-935B-EF54985A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252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08040" y="1676520"/>
            <a:ext cx="252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296-4124-4B4C-A7B1-B56E2435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FA3-49AD-4AD1-B16A-37C4BAC8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352680" y="609480"/>
            <a:ext cx="510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E46-0B52-4E58-8D5A-73531A28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08040" y="1676520"/>
            <a:ext cx="252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52680" y="378576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010-69A9-421C-959E-ADBD811D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252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0804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08040" y="378576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62E-9BC7-4BD8-AD07-3FDECB46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0804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52680" y="3785760"/>
            <a:ext cx="5181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D44A-E61C-46D9-8464-88ECD568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352680" y="167652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619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7E85-298F-46B2-9C2B-545773ED353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07960"/>
            <a:ext cx="4572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41480"/>
            <a:ext cx="4572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574640"/>
            <a:ext cx="4572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108160"/>
            <a:ext cx="4572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2641680"/>
            <a:ext cx="4572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39080" y="3962520"/>
            <a:ext cx="30492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839080" y="4495680"/>
            <a:ext cx="30492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839080" y="5029200"/>
            <a:ext cx="30492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839080" y="5562720"/>
            <a:ext cx="30492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839080" y="6095880"/>
            <a:ext cx="30492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zámítógép fejlőd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990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lép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Perifér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057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Háttértá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gene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gene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. gene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. gene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676520"/>
            <a:ext cx="609480" cy="3581280"/>
          </a:xfrm>
          <a:prstGeom prst="downArrow">
            <a:avLst>
              <a:gd name="adj1" fmla="val 59898"/>
              <a:gd name="adj2" fmla="val 4687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jlőd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990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zámítógép felép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Perifér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057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Háttértá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kstation" descr=""/>
          <p:cNvPicPr/>
          <p:nvPr/>
        </p:nvPicPr>
        <p:blipFill>
          <a:blip r:embed="rId1"/>
          <a:stretch/>
        </p:blipFill>
        <p:spPr>
          <a:xfrm>
            <a:off x="3581280" y="3809880"/>
            <a:ext cx="1735200" cy="1905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jlőd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990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lép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Perifér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057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áttértá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54240" y="1992240"/>
          <a:ext cx="663552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1992240"/>
                    <a:ext cx="663552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háttértárak csoportosítás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jlőd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990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lép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fér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057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Háttértá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6:10:04Z</dcterms:created>
  <dc:creator>.</dc:creator>
  <dc:description/>
  <dc:language>en-US</dc:language>
  <cp:lastModifiedBy>.</cp:lastModifiedBy>
  <dcterms:modified xsi:type="dcterms:W3CDTF">2003-05-26T20:36:18Z</dcterms:modified>
  <cp:revision>13</cp:revision>
  <dc:subject/>
  <dc:title>PowerPoint bemutató</dc:title>
</cp:coreProperties>
</file>