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660-CEC1-4EB7-A7C0-2CC2F5EA0F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generációknál be kell mutatni a blokkvázlatot, a méretet, a sebességet, az árat, a programozást és az alkalmazási terület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71E-376B-4EB6-A323-BB100244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2680" y="378576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2A2-A759-493E-90A1-0619F47A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0804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8BB-3216-4779-B77D-0A0E301A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0480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692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5268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10480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85692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BBC-4EC7-4916-BBB0-16914154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3D1-DEF0-4025-938F-84478BFA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1DB-B168-4469-A931-71179914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F6F-017C-49C8-A05C-3188996E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93A-6C52-48C4-84A7-3DA2BB0F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52680" y="609480"/>
            <a:ext cx="510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8C4-2550-4D37-A082-E2AE967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901-B638-447E-AC54-58DEA2F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0804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F97-D076-458C-87FA-9876D13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498-440D-4507-85A7-F101762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30AD-02B4-467D-93C2-13531EED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0796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4148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7464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10816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64168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39080" y="396252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839080" y="449568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839080" y="502920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556272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839080" y="609588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676520"/>
            <a:ext cx="609480" cy="3581280"/>
          </a:xfrm>
          <a:prstGeom prst="downArrow">
            <a:avLst>
              <a:gd name="adj1" fmla="val 59898"/>
              <a:gd name="adj2" fmla="val 4687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kstation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2776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4240" y="1992240"/>
          <a:ext cx="66355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992240"/>
                    <a:ext cx="66355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áttértárak csoportosítás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10:04Z</dcterms:created>
  <dc:creator>.</dc:creator>
  <dc:description/>
  <dc:language>en-US</dc:language>
  <cp:lastModifiedBy>.</cp:lastModifiedBy>
  <dcterms:modified xsi:type="dcterms:W3CDTF">2003-05-25T16:48:31Z</dcterms:modified>
  <cp:revision>11</cp:revision>
  <dc:subject/>
  <dc:title>PowerPoint bemutató</dc:title>
</cp:coreProperties>
</file>