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F1B9-F686-4263-9EAC-18EAEFBD451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FC5D-FF42-490D-84A8-76830797ACF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9360"/>
            <a:ext cx="29718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870444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1000" spc="-1" strike="noStrike">
                <a:solidFill>
                  <a:srgbClr val="003366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870444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360"/>
            <a:ext cx="29718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54200"/>
            <a:ext cx="5029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4AAB-33C2-4A76-B12D-840ED170BF9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86200" y="9360"/>
            <a:ext cx="29718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870444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1000" spc="-1" strike="noStrike">
                <a:solidFill>
                  <a:srgbClr val="003366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870444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9360"/>
            <a:ext cx="29718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54200"/>
            <a:ext cx="5029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6F62-044F-41B2-A837-795846EAF9B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86200" y="9360"/>
            <a:ext cx="29718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86200" y="870444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1000" spc="-1" strike="noStrike">
                <a:solidFill>
                  <a:srgbClr val="003366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870444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9360"/>
            <a:ext cx="29718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54200"/>
            <a:ext cx="5029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04F5-4217-47F4-AFDC-260C5AB7AD0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86200" y="9360"/>
            <a:ext cx="29718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86200" y="870444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1000" spc="-1" strike="noStrike">
                <a:solidFill>
                  <a:srgbClr val="003366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870444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9360"/>
            <a:ext cx="29718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54200"/>
            <a:ext cx="5029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3EC0-D01A-46D7-8D98-76C670840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D22C-4141-47D3-A273-C539E328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4859-F298-4F2D-B5D1-C71536022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C0E9-53A5-45D4-AD2E-F8AC4762F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F7D5-6B8C-49E7-B12C-4294D5773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1A90-D75C-4A55-884C-B3B5A118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3CA1-2C8A-45BF-8EC6-F6357EA5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634A-05AE-4D39-9914-EBAA49A9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ADC1-7C66-4A2F-8A33-919B9468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FCD8-AB64-4000-9DF3-B5F167A2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5796-14F8-46AC-92BE-FAA49260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AC20-0E78-4FA2-AC92-0E499D0B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0345-DD5B-4ADB-8EFC-9BCBB0B0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1BC6-1498-40A4-BF29-48AFD7D8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BD78-DD5F-4CEB-BBE1-D6BC7018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FD67-39AC-4A9A-8DBD-84B6EA919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1143-315B-4232-A0DB-013670760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6676-7337-4102-83A5-F9A2457B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35C6-4202-464D-A0E3-2209869E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21E0-53C7-4999-84BF-F389DEBF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4F3A-6DFF-4D39-B541-5C5BF3A2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3E86-95B3-4DF1-9EC2-17112AF6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B768-1FAA-4254-8C70-041EA661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5154-49D6-4715-A184-258816CF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5325-A5E8-42D5-9734-0BD1A3C9A17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733B-404E-47CA-A104-F81668F8AA3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3366"/>
                </a:solidFill>
                <a:latin typeface="Arial"/>
              </a:rPr>
              <a:t>A szakképzési rendszer modellj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advTm="1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368440" y="1378080"/>
            <a:ext cx="5778720" cy="5016240"/>
          </a:xfrm>
          <a:prstGeom prst="rect">
            <a:avLst/>
          </a:prstGeom>
          <a:noFill/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9680" y="4273560"/>
            <a:ext cx="1358640" cy="673200"/>
          </a:xfrm>
          <a:prstGeom prst="rect">
            <a:avLst/>
          </a:prstGeom>
          <a:noFill/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1. sz.m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93960" y="4516560"/>
            <a:ext cx="20340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02160" y="4273560"/>
            <a:ext cx="1359000" cy="673200"/>
          </a:xfrm>
          <a:prstGeom prst="rect">
            <a:avLst/>
          </a:prstGeom>
          <a:noFill/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2. sz.m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54640" y="4273560"/>
            <a:ext cx="1359000" cy="673200"/>
          </a:xfrm>
          <a:prstGeom prst="rect">
            <a:avLst/>
          </a:prstGeom>
          <a:noFill/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3. sz.m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97320" y="2978280"/>
            <a:ext cx="1359000" cy="672840"/>
          </a:xfrm>
          <a:prstGeom prst="rect">
            <a:avLst/>
          </a:prstGeom>
          <a:noFill/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4. sz.m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07000" y="2978280"/>
            <a:ext cx="1359000" cy="672840"/>
          </a:xfrm>
          <a:prstGeom prst="rect">
            <a:avLst/>
          </a:prstGeom>
          <a:noFill/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5. sz.m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02160" y="1682640"/>
            <a:ext cx="1359000" cy="673200"/>
          </a:xfrm>
          <a:prstGeom prst="rect">
            <a:avLst/>
          </a:prstGeom>
          <a:noFill/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6. sz.m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7040" y="5416560"/>
            <a:ext cx="5321520" cy="596880"/>
          </a:xfrm>
          <a:prstGeom prst="rect">
            <a:avLst/>
          </a:prstGeom>
          <a:noFill/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Kötelező szakmai tantárgyak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100040" y="4824360"/>
            <a:ext cx="38124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100040" y="4367160"/>
            <a:ext cx="38124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762080" y="3543480"/>
            <a:ext cx="83844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762080" y="3086280"/>
            <a:ext cx="838440" cy="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853240" y="4367160"/>
            <a:ext cx="380880" cy="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853240" y="4824360"/>
            <a:ext cx="380880" cy="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853240" y="4595760"/>
            <a:ext cx="38088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100040" y="4595760"/>
            <a:ext cx="381240" cy="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29000" y="4952880"/>
            <a:ext cx="0" cy="4572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181480" y="4952880"/>
            <a:ext cx="0" cy="4572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934320" y="4952880"/>
            <a:ext cx="0" cy="4572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657600" y="3657240"/>
            <a:ext cx="0" cy="60948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705720" y="3657240"/>
            <a:ext cx="0" cy="60948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343400" y="2361960"/>
            <a:ext cx="380880" cy="60948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5638320" y="2361960"/>
            <a:ext cx="381240" cy="60948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638680" y="3657240"/>
            <a:ext cx="381240" cy="60948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4572000" y="3657240"/>
            <a:ext cx="380880" cy="60948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4343400" y="3657240"/>
            <a:ext cx="380880" cy="60948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410080" y="3657240"/>
            <a:ext cx="381240" cy="60948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3962520"/>
            <a:ext cx="60984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8480" y="3833640"/>
            <a:ext cx="1470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Tantárgyi vizsgák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81480" y="914400"/>
            <a:ext cx="0" cy="4572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86120" y="534960"/>
            <a:ext cx="2788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Választható szakmai modulok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8153280" y="2209680"/>
            <a:ext cx="53352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8153280" y="2666880"/>
            <a:ext cx="5335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8153280" y="3657600"/>
            <a:ext cx="53352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8153280" y="4114800"/>
            <a:ext cx="5335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8153280" y="5105520"/>
            <a:ext cx="53352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8153280" y="5562720"/>
            <a:ext cx="5335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advTm="1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A szakképzés jellemzői I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A TANANYAG ÖSSZEÁLÍTÁSA MUNKAKÖRI ELEMZÉSRE ÉPÜ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A BELÉPÉS ÉS ELÖREHALADÁS A HALLGATÓ TELJESÍTMÉNYÉHEZ IGAZODI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advTm="1000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A szakképzés jellemzői II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A tananyag moduláris felépítésű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ki- és belépési lehetőséget biztosít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lehetőséget ad egyéni előrehaladásra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előzetes ismeretekhez alklalmazkodik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egyéni tanulási stílust is figyelembe vehet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folyamatos ön- és szintenkénti külső ellenőrzést tesz lehetővé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advTm="1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A szakképzés jellemzői III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A képzést egyéni és szakmai igény szerin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nyelvi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vállalkozási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számítástechnikai é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egyéb szakmai modulok egészítik k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advTm="1000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A szakképzés jellemzői IV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Munkaerő-piaci speciális igényeket elégít ki, m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álláskeresési technikák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kommunikációs képességfeljesztés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személyiségfejlesztő tréning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pályakorrekciós tanácsadá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advTm="1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25:57Z</dcterms:created>
  <dc:creator>.</dc:creator>
  <dc:description/>
  <dc:language>en-US</dc:language>
  <cp:lastModifiedBy>.</cp:lastModifiedBy>
  <dcterms:modified xsi:type="dcterms:W3CDTF">2003-05-04T06:52:56Z</dcterms:modified>
  <cp:revision>14</cp:revision>
  <dc:subject/>
  <dc:title>A munkaerő-piaci képzési rendszer modellje</dc:title>
</cp:coreProperties>
</file>