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18B1-D318-41A6-85B7-EC8A3DFB23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0CC-7DE3-48C4-8B71-9424299285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2BB-5851-4C6E-ACC3-E9E0AF11463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068-54C6-43B8-A472-456C256EA52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D25-0BE2-4F30-BC98-E128BF0C522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4F8-09F8-4E5B-A5EB-99C27215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200-C532-4C64-A409-062F862C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665-72ED-42F0-AE60-CBF51DDD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45C-DAE5-40DC-8FBD-CDBF0917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6A3-4416-40C8-B781-CDEE29D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9FC-1995-4656-836E-9198E4B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A8D-3C50-44F9-B616-6F5CBFDB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1F6-26FB-4581-BD3E-5F0913C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FDB-E61F-412E-86FC-BC3AB49F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F83-ED6E-4A74-BD95-92F575C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6D7-299C-469E-8DB7-A161C69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21E-C2CF-408E-BC5F-94B90EA2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44040" y="-9360"/>
            <a:ext cx="455400" cy="6927840"/>
          </a:xfrm>
          <a:prstGeom prst="rect">
            <a:avLst/>
          </a:prstGeom>
          <a:gradFill rotWithShape="0">
            <a:gsLst>
              <a:gs pos="0">
                <a:srgbClr val="60371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1680" y="-9360"/>
            <a:ext cx="457200" cy="6933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037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 flipV="1" rot="10800000">
            <a:off x="-17640" y="-12600"/>
            <a:ext cx="9205920" cy="457200"/>
          </a:xfrm>
          <a:custGeom>
            <a:avLst/>
            <a:gdLst>
              <a:gd name="textAreaLeft" fmla="*/ 1003680 w 9205920"/>
              <a:gd name="textAreaRight" fmla="*/ 8202240 w 9205920"/>
              <a:gd name="textAreaTop" fmla="*/ 49680 h 457200"/>
              <a:gd name="textAreaBottom" fmla="*/ 407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11" y="21600"/>
                </a:lnTo>
                <a:lnTo>
                  <a:pt x="1089" y="21600"/>
                </a:lnTo>
                <a:close/>
              </a:path>
            </a:pathLst>
          </a:custGeom>
          <a:gradFill rotWithShape="0">
            <a:gsLst>
              <a:gs pos="0">
                <a:srgbClr val="60371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-37800" y="6466680"/>
            <a:ext cx="9239400" cy="460440"/>
          </a:xfrm>
          <a:custGeom>
            <a:avLst/>
            <a:gdLst>
              <a:gd name="textAreaLeft" fmla="*/ 1009800 w 9239400"/>
              <a:gd name="textAreaRight" fmla="*/ 8229600 w 9239400"/>
              <a:gd name="textAreaTop" fmla="*/ 50040 h 460440"/>
              <a:gd name="textAreaBottom" fmla="*/ 4104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00" y="21600"/>
                </a:lnTo>
                <a:lnTo>
                  <a:pt x="110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037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0280" y="263520"/>
            <a:ext cx="8623440" cy="633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583C-ECE7-4FAE-8275-09DDCA8FEDE3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A szakképzési rendszer modellje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8440" y="1378080"/>
            <a:ext cx="5778720" cy="5016240"/>
          </a:xfrm>
          <a:prstGeom prst="rect">
            <a:avLst/>
          </a:prstGeom>
          <a:solidFill>
            <a:srgbClr val="00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9680" y="4273560"/>
            <a:ext cx="1358640" cy="67320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. sz.m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93960" y="4516560"/>
            <a:ext cx="2034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02160" y="4273560"/>
            <a:ext cx="1359000" cy="67320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2. sz.m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4640" y="4273560"/>
            <a:ext cx="1359000" cy="67320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. sz.m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97320" y="2978280"/>
            <a:ext cx="1359000" cy="67284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4. sz.m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7000" y="2978280"/>
            <a:ext cx="1359000" cy="67284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5. sz.m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02160" y="1682640"/>
            <a:ext cx="1359000" cy="67320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6. sz.m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7040" y="5416560"/>
            <a:ext cx="5321520" cy="596880"/>
          </a:xfrm>
          <a:prstGeom prst="rect">
            <a:avLst/>
          </a:prstGeom>
          <a:solidFill>
            <a:srgbClr val="0066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Kötelező szakmai tantárgya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00040" y="4824360"/>
            <a:ext cx="38124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00040" y="4367160"/>
            <a:ext cx="38124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2080" y="3543480"/>
            <a:ext cx="83844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62080" y="3086280"/>
            <a:ext cx="83844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53240" y="4367160"/>
            <a:ext cx="38088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53240" y="4824360"/>
            <a:ext cx="38088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53240" y="4595760"/>
            <a:ext cx="38088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100040" y="4595760"/>
            <a:ext cx="38124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429000" y="4952880"/>
            <a:ext cx="0" cy="45720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181480" y="4952880"/>
            <a:ext cx="0" cy="45720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34320" y="4952880"/>
            <a:ext cx="0" cy="45720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57600" y="3657240"/>
            <a:ext cx="0" cy="6094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05720" y="3657240"/>
            <a:ext cx="0" cy="6094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343400" y="2361960"/>
            <a:ext cx="380880" cy="6094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638320" y="2361960"/>
            <a:ext cx="381240" cy="6094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638680" y="3657240"/>
            <a:ext cx="381240" cy="6094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572000" y="3657240"/>
            <a:ext cx="380880" cy="6094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343400" y="3657240"/>
            <a:ext cx="380880" cy="60948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10080" y="3657240"/>
            <a:ext cx="381240" cy="60948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962520"/>
            <a:ext cx="60984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920" y="3833640"/>
            <a:ext cx="147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antárgyi vizsgá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81480" y="914400"/>
            <a:ext cx="0" cy="457200"/>
          </a:xfrm>
          <a:prstGeom prst="line">
            <a:avLst/>
          </a:prstGeom>
          <a:ln w="2844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86120" y="534960"/>
            <a:ext cx="278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Választható szakmai modulo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8153280" y="2209680"/>
            <a:ext cx="53352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153280" y="2666880"/>
            <a:ext cx="533520" cy="0"/>
          </a:xfrm>
          <a:prstGeom prst="line">
            <a:avLst/>
          </a:prstGeom>
          <a:ln w="2844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153280" y="3657600"/>
            <a:ext cx="53352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8153280" y="4114800"/>
            <a:ext cx="533520" cy="0"/>
          </a:xfrm>
          <a:prstGeom prst="line">
            <a:avLst/>
          </a:prstGeom>
          <a:ln w="2844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53280" y="5105520"/>
            <a:ext cx="53352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153280" y="5562720"/>
            <a:ext cx="533520" cy="0"/>
          </a:xfrm>
          <a:prstGeom prst="line">
            <a:avLst/>
          </a:prstGeom>
          <a:ln w="2844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A szakképzés jellemzői I.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ananyag összeállítása munkaköri elemzésre épü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belépés és előrehaladás a hallgató teljesítményéhez igazodi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A szakképzés jellemzői II.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ananyag moduláris felépítésű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- és belépési lehetőséget biztosí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hetőséget ad egyéni előrehaladásra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őzetes ismeretekhez alkalmazkodik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gyéni tanulási stílust is figyelembe vehe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yamatos ön- és szintenkénti külső ellenőrzést tesz lehetőv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A szakképzés jellemzői III.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képzést egyéni és szakmai igény szerint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yelvi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állalkozási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zámítástechnikai é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gyéb szakmai modulok egészítik k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A szakképzés jellemzői IV.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Munkaerő-piaci speciális igényeket elégít ki, mi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álláskereséséi tréning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kommunikációs képességfejlesztés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személyiségfejlesztő tréning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pályakorrekciós tanácsadá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9:59:15Z</dcterms:created>
  <dc:creator>.</dc:creator>
  <dc:description/>
  <dc:language>en-US</dc:language>
  <cp:lastModifiedBy>.</cp:lastModifiedBy>
  <dcterms:modified xsi:type="dcterms:W3CDTF">2003-05-25T20:06:33Z</dcterms:modified>
  <cp:revision>8</cp:revision>
  <dc:subject/>
  <dc:title>A szakképzési rendszer modellje</dc:title>
</cp:coreProperties>
</file>