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D8D-6477-4642-82FF-5C39DBD9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álózat egymással összekötött számítógépeket je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1E5-0A56-400B-AFD6-4BC32695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23F-512F-44F9-BB14-47F5665C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378-0314-4FC6-A364-6FF4EA53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00E-13EA-4AAC-9263-96506051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A48-D749-42C4-B4E9-0BE82D28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23B-4F26-4B90-99B8-88D8C95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A26-CFAB-4312-9457-E029C32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85A-A7C3-4D11-A9B2-701795CA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F4A-BA48-48DB-A746-9C14DDA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C3E-5CBF-4C9E-821A-A6EA97F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2CF-FE09-4543-BDAC-6A3274B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6EC-A96B-4D27-ADD2-BDA6CC2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C26-0DC8-47A1-9FA7-123B59B68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ámítógép-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ábel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axiá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vart érp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k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kárty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re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cí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ok kül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figurá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/O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busz architektú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ális hálózati kárty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pfogalm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 fog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architektúr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abván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SI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4360" y="2521080"/>
            <a:ext cx="761760" cy="3276360"/>
          </a:xfrm>
          <a:prstGeom prst="upArrow">
            <a:avLst>
              <a:gd name="adj1" fmla="val 42083"/>
              <a:gd name="adj2" fmla="val 62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0280" y="2438280"/>
            <a:ext cx="3403440" cy="400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mazá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0280" y="2921040"/>
            <a:ext cx="3403440" cy="40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jeleníté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0280" y="340992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üttműködé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0280" y="3892680"/>
            <a:ext cx="340344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állítás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0280" y="4379760"/>
            <a:ext cx="3403440" cy="400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lózat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0280" y="486900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tkapcsolat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0280" y="5351400"/>
            <a:ext cx="3403440" cy="39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ikai rét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leg korláto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terjedt 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öldrajzilag kiterje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bb tízezer felhaszná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ok alaptípus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enrangú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egyenrangó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ált hálóz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z (sí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kstation" descr=""/>
          <p:cNvPicPr/>
          <p:nvPr/>
        </p:nvPicPr>
        <p:blipFill>
          <a:blip r:embed="rId1"/>
          <a:stretch/>
        </p:blipFill>
        <p:spPr>
          <a:xfrm>
            <a:off x="201924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0" name="workstation" descr=""/>
          <p:cNvPicPr/>
          <p:nvPr/>
        </p:nvPicPr>
        <p:blipFill>
          <a:blip r:embed="rId2"/>
          <a:stretch/>
        </p:blipFill>
        <p:spPr>
          <a:xfrm>
            <a:off x="346716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1" name="workstation" descr=""/>
          <p:cNvPicPr/>
          <p:nvPr/>
        </p:nvPicPr>
        <p:blipFill>
          <a:blip r:embed="rId3"/>
          <a:stretch/>
        </p:blipFill>
        <p:spPr>
          <a:xfrm>
            <a:off x="4915080" y="3429000"/>
            <a:ext cx="895320" cy="982800"/>
          </a:xfrm>
          <a:prstGeom prst="rect">
            <a:avLst/>
          </a:prstGeom>
          <a:ln w="0">
            <a:noFill/>
          </a:ln>
        </p:spPr>
      </p:pic>
      <p:pic>
        <p:nvPicPr>
          <p:cNvPr id="72" name="workstation" descr=""/>
          <p:cNvPicPr/>
          <p:nvPr/>
        </p:nvPicPr>
        <p:blipFill>
          <a:blip r:embed="rId4"/>
          <a:stretch/>
        </p:blipFill>
        <p:spPr>
          <a:xfrm>
            <a:off x="6362640" y="3429000"/>
            <a:ext cx="895320" cy="982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866960" y="4378320"/>
            <a:ext cx="5410080" cy="457200"/>
            <a:chOff x="1866960" y="4378320"/>
            <a:chExt cx="5410080" cy="457200"/>
          </a:xfrm>
        </p:grpSpPr>
        <p:sp>
          <p:nvSpPr>
            <p:cNvPr id="74" name=""/>
            <p:cNvSpPr/>
            <p:nvPr/>
          </p:nvSpPr>
          <p:spPr>
            <a:xfrm>
              <a:off x="232380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172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1964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67200" y="4378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6960" y="4835520"/>
              <a:ext cx="5410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il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álózati topológ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űr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11:38:30Z</dcterms:created>
  <dc:creator>.</dc:creator>
  <dc:description/>
  <dc:language>en-US</dc:language>
  <cp:lastModifiedBy>.</cp:lastModifiedBy>
  <dcterms:modified xsi:type="dcterms:W3CDTF">2003-05-04T07:22:54Z</dcterms:modified>
  <cp:revision>12</cp:revision>
  <dc:subject/>
  <dc:title>Számítógép-hálózatok</dc:title>
</cp:coreProperties>
</file>