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5A3-2F95-4697-B450-4FEAD9EA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álózat egymással összekötött számítógépeket je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EA5-BB39-4364-8790-E6918C9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D11-516F-473D-9562-4EC5170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385-15D9-4B95-8B8A-F080258E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54F-C215-4B0B-8D8F-7E91B62E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548-A05B-471F-A3C6-34410D8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FA0-E458-4934-A213-B0F0EEB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348-1E16-4EFD-AC52-8B47B82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613-5332-4F98-A2B1-CE82D70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B28-9993-446C-A8B8-D02AC12B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0EB-ABE4-454D-A3A4-B5153D1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8A8-675C-4B93-9ABC-5C53BF0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632-9EA3-4940-9208-E90A064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6EB-4CA6-4D10-B2B6-82108BD8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ámítógép-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ábel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axiá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vart érp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k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kárty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re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cí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ok kül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figurá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/O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busz architektú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ális hálózati kárty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pfogalm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 fog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architektúr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abván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SI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4360" y="2521080"/>
            <a:ext cx="761760" cy="3276360"/>
          </a:xfrm>
          <a:prstGeom prst="upArrow">
            <a:avLst>
              <a:gd name="adj1" fmla="val 42083"/>
              <a:gd name="adj2" fmla="val 62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0280" y="2438280"/>
            <a:ext cx="3403440" cy="400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mazá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0280" y="2921040"/>
            <a:ext cx="3403440" cy="40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jeleníté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0280" y="340992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üttműködé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0280" y="3892680"/>
            <a:ext cx="340344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állítá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0280" y="4379760"/>
            <a:ext cx="3403440" cy="400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lózat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0280" y="486900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tkapcsolat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0280" y="535140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ika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leg korláto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terjedt 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öldrajzilag kiterje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bb tízezer felhaszná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ok alaptípus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enrangú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egyenrangó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ált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z (sí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kstation" descr=""/>
          <p:cNvPicPr/>
          <p:nvPr/>
        </p:nvPicPr>
        <p:blipFill>
          <a:blip r:embed="rId1"/>
          <a:stretch/>
        </p:blipFill>
        <p:spPr>
          <a:xfrm>
            <a:off x="201924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0" name="workstation" descr=""/>
          <p:cNvPicPr/>
          <p:nvPr/>
        </p:nvPicPr>
        <p:blipFill>
          <a:blip r:embed="rId2"/>
          <a:stretch/>
        </p:blipFill>
        <p:spPr>
          <a:xfrm>
            <a:off x="346716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1" name="workstation" descr=""/>
          <p:cNvPicPr/>
          <p:nvPr/>
        </p:nvPicPr>
        <p:blipFill>
          <a:blip r:embed="rId3"/>
          <a:stretch/>
        </p:blipFill>
        <p:spPr>
          <a:xfrm>
            <a:off x="491508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2" name="workstation" descr=""/>
          <p:cNvPicPr/>
          <p:nvPr/>
        </p:nvPicPr>
        <p:blipFill>
          <a:blip r:embed="rId4"/>
          <a:stretch/>
        </p:blipFill>
        <p:spPr>
          <a:xfrm>
            <a:off x="6362640" y="3429000"/>
            <a:ext cx="895320" cy="982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866960" y="4378320"/>
            <a:ext cx="5410080" cy="457200"/>
            <a:chOff x="1866960" y="4378320"/>
            <a:chExt cx="5410080" cy="457200"/>
          </a:xfrm>
        </p:grpSpPr>
        <p:sp>
          <p:nvSpPr>
            <p:cNvPr id="74" name=""/>
            <p:cNvSpPr/>
            <p:nvPr/>
          </p:nvSpPr>
          <p:spPr>
            <a:xfrm>
              <a:off x="232380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172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1964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6720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6960" y="4835520"/>
              <a:ext cx="5410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il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űr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11:38:30Z</dcterms:created>
  <dc:creator>.</dc:creator>
  <dc:description/>
  <dc:language>en-US</dc:language>
  <cp:lastModifiedBy>.</cp:lastModifiedBy>
  <dcterms:modified xsi:type="dcterms:W3CDTF">2003-05-04T07:22:54Z</dcterms:modified>
  <cp:revision>12</cp:revision>
  <dc:subject/>
  <dc:title>Számítógép-hálózatok</dc:title>
</cp:coreProperties>
</file>