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CADC-8C43-4DC9-886B-ED299AE83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rmányközi és integrációs szerv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Európai Unió Tanácsának székhelye Brüssz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Európai Számvevőszék székhely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xembour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éhány ország mandátumának alakulása a leendő 27 tagú Uniób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CE8-9BA1-4C73-B10B-AFD7B84D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521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14C-CD61-47FF-BBD8-3C3EFDE1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22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D7C-AB8E-4020-8A50-5682914F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738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5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521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738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5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0EA-D0D1-4C43-8A87-92D558C9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C95-A5EC-4BA1-97B9-FE57F275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CA9-074C-40AE-8F36-5C4A2C5D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6DE-B69D-4B82-A045-770479B1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B55-08B5-4511-92D1-C8CE5A23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1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21A-6A0C-4A58-874E-ABB2BFF4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37A-4052-4859-BAB3-8765588D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22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B83-0ABD-4E78-A82D-6E207119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8E5-E257-4DE3-A75F-24A0B69A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00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1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286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3F4C-5A24-45CD-9D4B-4F9BC0976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380880"/>
            <a:ext cx="1447920" cy="1432080"/>
          </a:xfrm>
          <a:custGeom>
            <a:avLst/>
            <a:gdLst/>
            <a:ahLst/>
            <a:rect l="l" t="t" r="r" b="b"/>
            <a:pathLst>
              <a:path w="2582" h="2580">
                <a:moveTo>
                  <a:pt x="305" y="563"/>
                </a:moveTo>
                <a:lnTo>
                  <a:pt x="315" y="591"/>
                </a:lnTo>
                <a:lnTo>
                  <a:pt x="324" y="618"/>
                </a:lnTo>
                <a:lnTo>
                  <a:pt x="333" y="646"/>
                </a:lnTo>
                <a:lnTo>
                  <a:pt x="343" y="673"/>
                </a:lnTo>
                <a:lnTo>
                  <a:pt x="371" y="675"/>
                </a:lnTo>
                <a:lnTo>
                  <a:pt x="401" y="675"/>
                </a:lnTo>
                <a:lnTo>
                  <a:pt x="429" y="675"/>
                </a:lnTo>
                <a:lnTo>
                  <a:pt x="459" y="675"/>
                </a:lnTo>
                <a:lnTo>
                  <a:pt x="436" y="692"/>
                </a:lnTo>
                <a:lnTo>
                  <a:pt x="412" y="710"/>
                </a:lnTo>
                <a:lnTo>
                  <a:pt x="389" y="727"/>
                </a:lnTo>
                <a:lnTo>
                  <a:pt x="365" y="744"/>
                </a:lnTo>
                <a:lnTo>
                  <a:pt x="373" y="772"/>
                </a:lnTo>
                <a:lnTo>
                  <a:pt x="383" y="801"/>
                </a:lnTo>
                <a:lnTo>
                  <a:pt x="392" y="828"/>
                </a:lnTo>
                <a:lnTo>
                  <a:pt x="401" y="856"/>
                </a:lnTo>
                <a:lnTo>
                  <a:pt x="377" y="839"/>
                </a:lnTo>
                <a:lnTo>
                  <a:pt x="354" y="822"/>
                </a:lnTo>
                <a:lnTo>
                  <a:pt x="330" y="805"/>
                </a:lnTo>
                <a:lnTo>
                  <a:pt x="305" y="787"/>
                </a:lnTo>
                <a:lnTo>
                  <a:pt x="283" y="805"/>
                </a:lnTo>
                <a:lnTo>
                  <a:pt x="258" y="822"/>
                </a:lnTo>
                <a:lnTo>
                  <a:pt x="236" y="839"/>
                </a:lnTo>
                <a:lnTo>
                  <a:pt x="211" y="856"/>
                </a:lnTo>
                <a:lnTo>
                  <a:pt x="220" y="828"/>
                </a:lnTo>
                <a:lnTo>
                  <a:pt x="229" y="801"/>
                </a:lnTo>
                <a:lnTo>
                  <a:pt x="238" y="772"/>
                </a:lnTo>
                <a:lnTo>
                  <a:pt x="246" y="744"/>
                </a:lnTo>
                <a:lnTo>
                  <a:pt x="223" y="727"/>
                </a:lnTo>
                <a:lnTo>
                  <a:pt x="199" y="710"/>
                </a:lnTo>
                <a:lnTo>
                  <a:pt x="176" y="692"/>
                </a:lnTo>
                <a:lnTo>
                  <a:pt x="154" y="675"/>
                </a:lnTo>
                <a:lnTo>
                  <a:pt x="182" y="675"/>
                </a:lnTo>
                <a:lnTo>
                  <a:pt x="211" y="675"/>
                </a:lnTo>
                <a:lnTo>
                  <a:pt x="240" y="675"/>
                </a:lnTo>
                <a:lnTo>
                  <a:pt x="269" y="673"/>
                </a:lnTo>
                <a:lnTo>
                  <a:pt x="278" y="646"/>
                </a:lnTo>
                <a:lnTo>
                  <a:pt x="288" y="618"/>
                </a:lnTo>
                <a:lnTo>
                  <a:pt x="297" y="591"/>
                </a:lnTo>
                <a:lnTo>
                  <a:pt x="305" y="563"/>
                </a:lnTo>
                <a:close/>
                <a:moveTo>
                  <a:pt x="152" y="1138"/>
                </a:moveTo>
                <a:lnTo>
                  <a:pt x="162" y="1165"/>
                </a:lnTo>
                <a:lnTo>
                  <a:pt x="171" y="1193"/>
                </a:lnTo>
                <a:lnTo>
                  <a:pt x="180" y="1220"/>
                </a:lnTo>
                <a:lnTo>
                  <a:pt x="190" y="1249"/>
                </a:lnTo>
                <a:lnTo>
                  <a:pt x="218" y="1249"/>
                </a:lnTo>
                <a:lnTo>
                  <a:pt x="248" y="1249"/>
                </a:lnTo>
                <a:lnTo>
                  <a:pt x="276" y="1249"/>
                </a:lnTo>
                <a:lnTo>
                  <a:pt x="305" y="1249"/>
                </a:lnTo>
                <a:lnTo>
                  <a:pt x="283" y="1267"/>
                </a:lnTo>
                <a:lnTo>
                  <a:pt x="258" y="1284"/>
                </a:lnTo>
                <a:lnTo>
                  <a:pt x="236" y="1301"/>
                </a:lnTo>
                <a:lnTo>
                  <a:pt x="211" y="1319"/>
                </a:lnTo>
                <a:lnTo>
                  <a:pt x="220" y="1346"/>
                </a:lnTo>
                <a:lnTo>
                  <a:pt x="229" y="1375"/>
                </a:lnTo>
                <a:lnTo>
                  <a:pt x="238" y="1403"/>
                </a:lnTo>
                <a:lnTo>
                  <a:pt x="248" y="1430"/>
                </a:lnTo>
                <a:lnTo>
                  <a:pt x="223" y="1414"/>
                </a:lnTo>
                <a:lnTo>
                  <a:pt x="199" y="1396"/>
                </a:lnTo>
                <a:lnTo>
                  <a:pt x="176" y="1379"/>
                </a:lnTo>
                <a:lnTo>
                  <a:pt x="152" y="1362"/>
                </a:lnTo>
                <a:lnTo>
                  <a:pt x="129" y="1379"/>
                </a:lnTo>
                <a:lnTo>
                  <a:pt x="105" y="1396"/>
                </a:lnTo>
                <a:lnTo>
                  <a:pt x="81" y="1414"/>
                </a:lnTo>
                <a:lnTo>
                  <a:pt x="58" y="1430"/>
                </a:lnTo>
                <a:lnTo>
                  <a:pt x="67" y="1403"/>
                </a:lnTo>
                <a:lnTo>
                  <a:pt x="76" y="1375"/>
                </a:lnTo>
                <a:lnTo>
                  <a:pt x="85" y="1346"/>
                </a:lnTo>
                <a:lnTo>
                  <a:pt x="93" y="1319"/>
                </a:lnTo>
                <a:lnTo>
                  <a:pt x="70" y="1301"/>
                </a:lnTo>
                <a:lnTo>
                  <a:pt x="46" y="1284"/>
                </a:lnTo>
                <a:lnTo>
                  <a:pt x="23" y="1267"/>
                </a:lnTo>
                <a:lnTo>
                  <a:pt x="0" y="1249"/>
                </a:lnTo>
                <a:lnTo>
                  <a:pt x="29" y="1249"/>
                </a:lnTo>
                <a:lnTo>
                  <a:pt x="58" y="1249"/>
                </a:lnTo>
                <a:lnTo>
                  <a:pt x="87" y="1249"/>
                </a:lnTo>
                <a:lnTo>
                  <a:pt x="116" y="1249"/>
                </a:lnTo>
                <a:lnTo>
                  <a:pt x="125" y="1220"/>
                </a:lnTo>
                <a:lnTo>
                  <a:pt x="135" y="1193"/>
                </a:lnTo>
                <a:lnTo>
                  <a:pt x="144" y="1165"/>
                </a:lnTo>
                <a:lnTo>
                  <a:pt x="152" y="1138"/>
                </a:lnTo>
                <a:close/>
                <a:moveTo>
                  <a:pt x="305" y="1712"/>
                </a:moveTo>
                <a:lnTo>
                  <a:pt x="315" y="1740"/>
                </a:lnTo>
                <a:lnTo>
                  <a:pt x="324" y="1767"/>
                </a:lnTo>
                <a:lnTo>
                  <a:pt x="333" y="1795"/>
                </a:lnTo>
                <a:lnTo>
                  <a:pt x="343" y="1824"/>
                </a:lnTo>
                <a:lnTo>
                  <a:pt x="371" y="1824"/>
                </a:lnTo>
                <a:lnTo>
                  <a:pt x="401" y="1824"/>
                </a:lnTo>
                <a:lnTo>
                  <a:pt x="429" y="1824"/>
                </a:lnTo>
                <a:lnTo>
                  <a:pt x="459" y="1824"/>
                </a:lnTo>
                <a:lnTo>
                  <a:pt x="436" y="1841"/>
                </a:lnTo>
                <a:lnTo>
                  <a:pt x="412" y="1859"/>
                </a:lnTo>
                <a:lnTo>
                  <a:pt x="389" y="1876"/>
                </a:lnTo>
                <a:lnTo>
                  <a:pt x="365" y="1893"/>
                </a:lnTo>
                <a:lnTo>
                  <a:pt x="373" y="1921"/>
                </a:lnTo>
                <a:lnTo>
                  <a:pt x="383" y="1950"/>
                </a:lnTo>
                <a:lnTo>
                  <a:pt x="392" y="1977"/>
                </a:lnTo>
                <a:lnTo>
                  <a:pt x="401" y="2005"/>
                </a:lnTo>
                <a:lnTo>
                  <a:pt x="377" y="1988"/>
                </a:lnTo>
                <a:lnTo>
                  <a:pt x="354" y="1971"/>
                </a:lnTo>
                <a:lnTo>
                  <a:pt x="330" y="1954"/>
                </a:lnTo>
                <a:lnTo>
                  <a:pt x="305" y="1936"/>
                </a:lnTo>
                <a:lnTo>
                  <a:pt x="283" y="1954"/>
                </a:lnTo>
                <a:lnTo>
                  <a:pt x="258" y="1971"/>
                </a:lnTo>
                <a:lnTo>
                  <a:pt x="236" y="1988"/>
                </a:lnTo>
                <a:lnTo>
                  <a:pt x="211" y="2005"/>
                </a:lnTo>
                <a:lnTo>
                  <a:pt x="220" y="1977"/>
                </a:lnTo>
                <a:lnTo>
                  <a:pt x="229" y="1950"/>
                </a:lnTo>
                <a:lnTo>
                  <a:pt x="238" y="1921"/>
                </a:lnTo>
                <a:lnTo>
                  <a:pt x="246" y="1893"/>
                </a:lnTo>
                <a:lnTo>
                  <a:pt x="223" y="1876"/>
                </a:lnTo>
                <a:lnTo>
                  <a:pt x="199" y="1859"/>
                </a:lnTo>
                <a:lnTo>
                  <a:pt x="176" y="1841"/>
                </a:lnTo>
                <a:lnTo>
                  <a:pt x="154" y="1824"/>
                </a:lnTo>
                <a:lnTo>
                  <a:pt x="182" y="1824"/>
                </a:lnTo>
                <a:lnTo>
                  <a:pt x="211" y="1824"/>
                </a:lnTo>
                <a:lnTo>
                  <a:pt x="240" y="1824"/>
                </a:lnTo>
                <a:lnTo>
                  <a:pt x="269" y="1824"/>
                </a:lnTo>
                <a:lnTo>
                  <a:pt x="278" y="1795"/>
                </a:lnTo>
                <a:lnTo>
                  <a:pt x="288" y="1767"/>
                </a:lnTo>
                <a:lnTo>
                  <a:pt x="297" y="1740"/>
                </a:lnTo>
                <a:lnTo>
                  <a:pt x="305" y="1712"/>
                </a:lnTo>
                <a:close/>
                <a:moveTo>
                  <a:pt x="722" y="2133"/>
                </a:moveTo>
                <a:lnTo>
                  <a:pt x="732" y="2161"/>
                </a:lnTo>
                <a:lnTo>
                  <a:pt x="741" y="2188"/>
                </a:lnTo>
                <a:lnTo>
                  <a:pt x="749" y="2216"/>
                </a:lnTo>
                <a:lnTo>
                  <a:pt x="759" y="2245"/>
                </a:lnTo>
                <a:lnTo>
                  <a:pt x="788" y="2245"/>
                </a:lnTo>
                <a:lnTo>
                  <a:pt x="817" y="2245"/>
                </a:lnTo>
                <a:lnTo>
                  <a:pt x="846" y="2245"/>
                </a:lnTo>
                <a:lnTo>
                  <a:pt x="875" y="2245"/>
                </a:lnTo>
                <a:lnTo>
                  <a:pt x="852" y="2262"/>
                </a:lnTo>
                <a:lnTo>
                  <a:pt x="828" y="2280"/>
                </a:lnTo>
                <a:lnTo>
                  <a:pt x="805" y="2297"/>
                </a:lnTo>
                <a:lnTo>
                  <a:pt x="781" y="2314"/>
                </a:lnTo>
                <a:lnTo>
                  <a:pt x="790" y="2342"/>
                </a:lnTo>
                <a:lnTo>
                  <a:pt x="800" y="2371"/>
                </a:lnTo>
                <a:lnTo>
                  <a:pt x="808" y="2398"/>
                </a:lnTo>
                <a:lnTo>
                  <a:pt x="817" y="2426"/>
                </a:lnTo>
                <a:lnTo>
                  <a:pt x="793" y="2409"/>
                </a:lnTo>
                <a:lnTo>
                  <a:pt x="770" y="2392"/>
                </a:lnTo>
                <a:lnTo>
                  <a:pt x="746" y="2375"/>
                </a:lnTo>
                <a:lnTo>
                  <a:pt x="722" y="2357"/>
                </a:lnTo>
                <a:lnTo>
                  <a:pt x="699" y="2375"/>
                </a:lnTo>
                <a:lnTo>
                  <a:pt x="675" y="2392"/>
                </a:lnTo>
                <a:lnTo>
                  <a:pt x="652" y="2409"/>
                </a:lnTo>
                <a:lnTo>
                  <a:pt x="628" y="2426"/>
                </a:lnTo>
                <a:lnTo>
                  <a:pt x="637" y="2398"/>
                </a:lnTo>
                <a:lnTo>
                  <a:pt x="645" y="2371"/>
                </a:lnTo>
                <a:lnTo>
                  <a:pt x="654" y="2342"/>
                </a:lnTo>
                <a:lnTo>
                  <a:pt x="663" y="2314"/>
                </a:lnTo>
                <a:lnTo>
                  <a:pt x="640" y="2297"/>
                </a:lnTo>
                <a:lnTo>
                  <a:pt x="616" y="2280"/>
                </a:lnTo>
                <a:lnTo>
                  <a:pt x="593" y="2262"/>
                </a:lnTo>
                <a:lnTo>
                  <a:pt x="570" y="2245"/>
                </a:lnTo>
                <a:lnTo>
                  <a:pt x="598" y="2245"/>
                </a:lnTo>
                <a:lnTo>
                  <a:pt x="628" y="2245"/>
                </a:lnTo>
                <a:lnTo>
                  <a:pt x="656" y="2245"/>
                </a:lnTo>
                <a:lnTo>
                  <a:pt x="686" y="2245"/>
                </a:lnTo>
                <a:lnTo>
                  <a:pt x="695" y="2216"/>
                </a:lnTo>
                <a:lnTo>
                  <a:pt x="704" y="2188"/>
                </a:lnTo>
                <a:lnTo>
                  <a:pt x="713" y="2161"/>
                </a:lnTo>
                <a:lnTo>
                  <a:pt x="722" y="2133"/>
                </a:lnTo>
                <a:close/>
                <a:moveTo>
                  <a:pt x="723" y="156"/>
                </a:moveTo>
                <a:lnTo>
                  <a:pt x="732" y="185"/>
                </a:lnTo>
                <a:lnTo>
                  <a:pt x="742" y="213"/>
                </a:lnTo>
                <a:lnTo>
                  <a:pt x="750" y="240"/>
                </a:lnTo>
                <a:lnTo>
                  <a:pt x="759" y="268"/>
                </a:lnTo>
                <a:lnTo>
                  <a:pt x="789" y="269"/>
                </a:lnTo>
                <a:lnTo>
                  <a:pt x="817" y="269"/>
                </a:lnTo>
                <a:lnTo>
                  <a:pt x="847" y="269"/>
                </a:lnTo>
                <a:lnTo>
                  <a:pt x="876" y="269"/>
                </a:lnTo>
                <a:lnTo>
                  <a:pt x="852" y="287"/>
                </a:lnTo>
                <a:lnTo>
                  <a:pt x="829" y="303"/>
                </a:lnTo>
                <a:lnTo>
                  <a:pt x="805" y="321"/>
                </a:lnTo>
                <a:lnTo>
                  <a:pt x="782" y="339"/>
                </a:lnTo>
                <a:lnTo>
                  <a:pt x="791" y="366"/>
                </a:lnTo>
                <a:lnTo>
                  <a:pt x="800" y="395"/>
                </a:lnTo>
                <a:lnTo>
                  <a:pt x="808" y="423"/>
                </a:lnTo>
                <a:lnTo>
                  <a:pt x="817" y="450"/>
                </a:lnTo>
                <a:lnTo>
                  <a:pt x="794" y="434"/>
                </a:lnTo>
                <a:lnTo>
                  <a:pt x="770" y="416"/>
                </a:lnTo>
                <a:lnTo>
                  <a:pt x="746" y="399"/>
                </a:lnTo>
                <a:lnTo>
                  <a:pt x="723" y="382"/>
                </a:lnTo>
                <a:lnTo>
                  <a:pt x="699" y="399"/>
                </a:lnTo>
                <a:lnTo>
                  <a:pt x="676" y="416"/>
                </a:lnTo>
                <a:lnTo>
                  <a:pt x="652" y="434"/>
                </a:lnTo>
                <a:lnTo>
                  <a:pt x="629" y="450"/>
                </a:lnTo>
                <a:lnTo>
                  <a:pt x="638" y="423"/>
                </a:lnTo>
                <a:lnTo>
                  <a:pt x="647" y="395"/>
                </a:lnTo>
                <a:lnTo>
                  <a:pt x="655" y="366"/>
                </a:lnTo>
                <a:lnTo>
                  <a:pt x="664" y="339"/>
                </a:lnTo>
                <a:lnTo>
                  <a:pt x="640" y="321"/>
                </a:lnTo>
                <a:lnTo>
                  <a:pt x="617" y="303"/>
                </a:lnTo>
                <a:lnTo>
                  <a:pt x="594" y="287"/>
                </a:lnTo>
                <a:lnTo>
                  <a:pt x="570" y="269"/>
                </a:lnTo>
                <a:lnTo>
                  <a:pt x="600" y="269"/>
                </a:lnTo>
                <a:lnTo>
                  <a:pt x="628" y="269"/>
                </a:lnTo>
                <a:lnTo>
                  <a:pt x="657" y="269"/>
                </a:lnTo>
                <a:lnTo>
                  <a:pt x="686" y="268"/>
                </a:lnTo>
                <a:lnTo>
                  <a:pt x="696" y="240"/>
                </a:lnTo>
                <a:lnTo>
                  <a:pt x="704" y="213"/>
                </a:lnTo>
                <a:lnTo>
                  <a:pt x="714" y="185"/>
                </a:lnTo>
                <a:lnTo>
                  <a:pt x="723" y="156"/>
                </a:lnTo>
                <a:close/>
                <a:moveTo>
                  <a:pt x="1292" y="2288"/>
                </a:moveTo>
                <a:lnTo>
                  <a:pt x="1300" y="2315"/>
                </a:lnTo>
                <a:lnTo>
                  <a:pt x="1309" y="2343"/>
                </a:lnTo>
                <a:lnTo>
                  <a:pt x="1319" y="2371"/>
                </a:lnTo>
                <a:lnTo>
                  <a:pt x="1328" y="2399"/>
                </a:lnTo>
                <a:lnTo>
                  <a:pt x="1356" y="2399"/>
                </a:lnTo>
                <a:lnTo>
                  <a:pt x="1386" y="2399"/>
                </a:lnTo>
                <a:lnTo>
                  <a:pt x="1415" y="2399"/>
                </a:lnTo>
                <a:lnTo>
                  <a:pt x="1444" y="2399"/>
                </a:lnTo>
                <a:lnTo>
                  <a:pt x="1421" y="2417"/>
                </a:lnTo>
                <a:lnTo>
                  <a:pt x="1396" y="2435"/>
                </a:lnTo>
                <a:lnTo>
                  <a:pt x="1374" y="2451"/>
                </a:lnTo>
                <a:lnTo>
                  <a:pt x="1351" y="2469"/>
                </a:lnTo>
                <a:lnTo>
                  <a:pt x="1359" y="2498"/>
                </a:lnTo>
                <a:lnTo>
                  <a:pt x="1368" y="2525"/>
                </a:lnTo>
                <a:lnTo>
                  <a:pt x="1377" y="2553"/>
                </a:lnTo>
                <a:lnTo>
                  <a:pt x="1386" y="2580"/>
                </a:lnTo>
                <a:lnTo>
                  <a:pt x="1362" y="2564"/>
                </a:lnTo>
                <a:lnTo>
                  <a:pt x="1339" y="2546"/>
                </a:lnTo>
                <a:lnTo>
                  <a:pt x="1315" y="2530"/>
                </a:lnTo>
                <a:lnTo>
                  <a:pt x="1292" y="2512"/>
                </a:lnTo>
                <a:lnTo>
                  <a:pt x="1267" y="2530"/>
                </a:lnTo>
                <a:lnTo>
                  <a:pt x="1243" y="2546"/>
                </a:lnTo>
                <a:lnTo>
                  <a:pt x="1220" y="2564"/>
                </a:lnTo>
                <a:lnTo>
                  <a:pt x="1196" y="2580"/>
                </a:lnTo>
                <a:lnTo>
                  <a:pt x="1205" y="2553"/>
                </a:lnTo>
                <a:lnTo>
                  <a:pt x="1214" y="2525"/>
                </a:lnTo>
                <a:lnTo>
                  <a:pt x="1223" y="2498"/>
                </a:lnTo>
                <a:lnTo>
                  <a:pt x="1231" y="2469"/>
                </a:lnTo>
                <a:lnTo>
                  <a:pt x="1208" y="2451"/>
                </a:lnTo>
                <a:lnTo>
                  <a:pt x="1186" y="2435"/>
                </a:lnTo>
                <a:lnTo>
                  <a:pt x="1161" y="2417"/>
                </a:lnTo>
                <a:lnTo>
                  <a:pt x="1138" y="2399"/>
                </a:lnTo>
                <a:lnTo>
                  <a:pt x="1167" y="2399"/>
                </a:lnTo>
                <a:lnTo>
                  <a:pt x="1196" y="2399"/>
                </a:lnTo>
                <a:lnTo>
                  <a:pt x="1226" y="2399"/>
                </a:lnTo>
                <a:lnTo>
                  <a:pt x="1254" y="2399"/>
                </a:lnTo>
                <a:lnTo>
                  <a:pt x="1263" y="2371"/>
                </a:lnTo>
                <a:lnTo>
                  <a:pt x="1273" y="2343"/>
                </a:lnTo>
                <a:lnTo>
                  <a:pt x="1282" y="2315"/>
                </a:lnTo>
                <a:lnTo>
                  <a:pt x="1292" y="2288"/>
                </a:lnTo>
                <a:close/>
                <a:moveTo>
                  <a:pt x="1284" y="0"/>
                </a:moveTo>
                <a:lnTo>
                  <a:pt x="1293" y="27"/>
                </a:lnTo>
                <a:lnTo>
                  <a:pt x="1301" y="55"/>
                </a:lnTo>
                <a:lnTo>
                  <a:pt x="1311" y="82"/>
                </a:lnTo>
                <a:lnTo>
                  <a:pt x="1320" y="110"/>
                </a:lnTo>
                <a:lnTo>
                  <a:pt x="1349" y="111"/>
                </a:lnTo>
                <a:lnTo>
                  <a:pt x="1378" y="111"/>
                </a:lnTo>
                <a:lnTo>
                  <a:pt x="1407" y="111"/>
                </a:lnTo>
                <a:lnTo>
                  <a:pt x="1436" y="111"/>
                </a:lnTo>
                <a:lnTo>
                  <a:pt x="1413" y="129"/>
                </a:lnTo>
                <a:lnTo>
                  <a:pt x="1389" y="145"/>
                </a:lnTo>
                <a:lnTo>
                  <a:pt x="1366" y="163"/>
                </a:lnTo>
                <a:lnTo>
                  <a:pt x="1343" y="181"/>
                </a:lnTo>
                <a:lnTo>
                  <a:pt x="1352" y="208"/>
                </a:lnTo>
                <a:lnTo>
                  <a:pt x="1360" y="237"/>
                </a:lnTo>
                <a:lnTo>
                  <a:pt x="1369" y="265"/>
                </a:lnTo>
                <a:lnTo>
                  <a:pt x="1378" y="292"/>
                </a:lnTo>
                <a:lnTo>
                  <a:pt x="1354" y="276"/>
                </a:lnTo>
                <a:lnTo>
                  <a:pt x="1331" y="258"/>
                </a:lnTo>
                <a:lnTo>
                  <a:pt x="1307" y="241"/>
                </a:lnTo>
                <a:lnTo>
                  <a:pt x="1284" y="224"/>
                </a:lnTo>
                <a:lnTo>
                  <a:pt x="1260" y="241"/>
                </a:lnTo>
                <a:lnTo>
                  <a:pt x="1236" y="258"/>
                </a:lnTo>
                <a:lnTo>
                  <a:pt x="1213" y="276"/>
                </a:lnTo>
                <a:lnTo>
                  <a:pt x="1189" y="292"/>
                </a:lnTo>
                <a:lnTo>
                  <a:pt x="1198" y="265"/>
                </a:lnTo>
                <a:lnTo>
                  <a:pt x="1206" y="237"/>
                </a:lnTo>
                <a:lnTo>
                  <a:pt x="1215" y="208"/>
                </a:lnTo>
                <a:lnTo>
                  <a:pt x="1225" y="181"/>
                </a:lnTo>
                <a:lnTo>
                  <a:pt x="1201" y="163"/>
                </a:lnTo>
                <a:lnTo>
                  <a:pt x="1178" y="145"/>
                </a:lnTo>
                <a:lnTo>
                  <a:pt x="1154" y="129"/>
                </a:lnTo>
                <a:lnTo>
                  <a:pt x="1131" y="111"/>
                </a:lnTo>
                <a:lnTo>
                  <a:pt x="1159" y="111"/>
                </a:lnTo>
                <a:lnTo>
                  <a:pt x="1189" y="111"/>
                </a:lnTo>
                <a:lnTo>
                  <a:pt x="1218" y="111"/>
                </a:lnTo>
                <a:lnTo>
                  <a:pt x="1247" y="110"/>
                </a:lnTo>
                <a:lnTo>
                  <a:pt x="1257" y="82"/>
                </a:lnTo>
                <a:lnTo>
                  <a:pt x="1265" y="55"/>
                </a:lnTo>
                <a:lnTo>
                  <a:pt x="1274" y="27"/>
                </a:lnTo>
                <a:lnTo>
                  <a:pt x="1284" y="0"/>
                </a:lnTo>
                <a:close/>
                <a:moveTo>
                  <a:pt x="1860" y="2133"/>
                </a:moveTo>
                <a:lnTo>
                  <a:pt x="1869" y="2161"/>
                </a:lnTo>
                <a:lnTo>
                  <a:pt x="1878" y="2188"/>
                </a:lnTo>
                <a:lnTo>
                  <a:pt x="1887" y="2216"/>
                </a:lnTo>
                <a:lnTo>
                  <a:pt x="1896" y="2245"/>
                </a:lnTo>
                <a:lnTo>
                  <a:pt x="1926" y="2245"/>
                </a:lnTo>
                <a:lnTo>
                  <a:pt x="1954" y="2245"/>
                </a:lnTo>
                <a:lnTo>
                  <a:pt x="1984" y="2245"/>
                </a:lnTo>
                <a:lnTo>
                  <a:pt x="2012" y="2245"/>
                </a:lnTo>
                <a:lnTo>
                  <a:pt x="1989" y="2262"/>
                </a:lnTo>
                <a:lnTo>
                  <a:pt x="1966" y="2280"/>
                </a:lnTo>
                <a:lnTo>
                  <a:pt x="1942" y="2297"/>
                </a:lnTo>
                <a:lnTo>
                  <a:pt x="1919" y="2314"/>
                </a:lnTo>
                <a:lnTo>
                  <a:pt x="1928" y="2342"/>
                </a:lnTo>
                <a:lnTo>
                  <a:pt x="1937" y="2371"/>
                </a:lnTo>
                <a:lnTo>
                  <a:pt x="1945" y="2398"/>
                </a:lnTo>
                <a:lnTo>
                  <a:pt x="1954" y="2426"/>
                </a:lnTo>
                <a:lnTo>
                  <a:pt x="1930" y="2409"/>
                </a:lnTo>
                <a:lnTo>
                  <a:pt x="1907" y="2392"/>
                </a:lnTo>
                <a:lnTo>
                  <a:pt x="1883" y="2375"/>
                </a:lnTo>
                <a:lnTo>
                  <a:pt x="1860" y="2357"/>
                </a:lnTo>
                <a:lnTo>
                  <a:pt x="1836" y="2375"/>
                </a:lnTo>
                <a:lnTo>
                  <a:pt x="1812" y="2392"/>
                </a:lnTo>
                <a:lnTo>
                  <a:pt x="1789" y="2409"/>
                </a:lnTo>
                <a:lnTo>
                  <a:pt x="1765" y="2426"/>
                </a:lnTo>
                <a:lnTo>
                  <a:pt x="1774" y="2398"/>
                </a:lnTo>
                <a:lnTo>
                  <a:pt x="1782" y="2371"/>
                </a:lnTo>
                <a:lnTo>
                  <a:pt x="1792" y="2342"/>
                </a:lnTo>
                <a:lnTo>
                  <a:pt x="1801" y="2314"/>
                </a:lnTo>
                <a:lnTo>
                  <a:pt x="1777" y="2297"/>
                </a:lnTo>
                <a:lnTo>
                  <a:pt x="1754" y="2280"/>
                </a:lnTo>
                <a:lnTo>
                  <a:pt x="1730" y="2262"/>
                </a:lnTo>
                <a:lnTo>
                  <a:pt x="1707" y="2245"/>
                </a:lnTo>
                <a:lnTo>
                  <a:pt x="1736" y="2245"/>
                </a:lnTo>
                <a:lnTo>
                  <a:pt x="1765" y="2245"/>
                </a:lnTo>
                <a:lnTo>
                  <a:pt x="1794" y="2245"/>
                </a:lnTo>
                <a:lnTo>
                  <a:pt x="1823" y="2245"/>
                </a:lnTo>
                <a:lnTo>
                  <a:pt x="1833" y="2216"/>
                </a:lnTo>
                <a:lnTo>
                  <a:pt x="1841" y="2188"/>
                </a:lnTo>
                <a:lnTo>
                  <a:pt x="1850" y="2161"/>
                </a:lnTo>
                <a:lnTo>
                  <a:pt x="1860" y="2133"/>
                </a:lnTo>
                <a:close/>
                <a:moveTo>
                  <a:pt x="1860" y="156"/>
                </a:moveTo>
                <a:lnTo>
                  <a:pt x="1870" y="185"/>
                </a:lnTo>
                <a:lnTo>
                  <a:pt x="1879" y="213"/>
                </a:lnTo>
                <a:lnTo>
                  <a:pt x="1887" y="240"/>
                </a:lnTo>
                <a:lnTo>
                  <a:pt x="1897" y="268"/>
                </a:lnTo>
                <a:lnTo>
                  <a:pt x="1926" y="269"/>
                </a:lnTo>
                <a:lnTo>
                  <a:pt x="1955" y="269"/>
                </a:lnTo>
                <a:lnTo>
                  <a:pt x="1984" y="269"/>
                </a:lnTo>
                <a:lnTo>
                  <a:pt x="2013" y="269"/>
                </a:lnTo>
                <a:lnTo>
                  <a:pt x="1990" y="287"/>
                </a:lnTo>
                <a:lnTo>
                  <a:pt x="1966" y="303"/>
                </a:lnTo>
                <a:lnTo>
                  <a:pt x="1943" y="321"/>
                </a:lnTo>
                <a:lnTo>
                  <a:pt x="1919" y="339"/>
                </a:lnTo>
                <a:lnTo>
                  <a:pt x="1928" y="366"/>
                </a:lnTo>
                <a:lnTo>
                  <a:pt x="1937" y="395"/>
                </a:lnTo>
                <a:lnTo>
                  <a:pt x="1945" y="423"/>
                </a:lnTo>
                <a:lnTo>
                  <a:pt x="1955" y="450"/>
                </a:lnTo>
                <a:lnTo>
                  <a:pt x="1931" y="434"/>
                </a:lnTo>
                <a:lnTo>
                  <a:pt x="1907" y="416"/>
                </a:lnTo>
                <a:lnTo>
                  <a:pt x="1884" y="399"/>
                </a:lnTo>
                <a:lnTo>
                  <a:pt x="1860" y="382"/>
                </a:lnTo>
                <a:lnTo>
                  <a:pt x="1837" y="399"/>
                </a:lnTo>
                <a:lnTo>
                  <a:pt x="1813" y="416"/>
                </a:lnTo>
                <a:lnTo>
                  <a:pt x="1789" y="434"/>
                </a:lnTo>
                <a:lnTo>
                  <a:pt x="1766" y="450"/>
                </a:lnTo>
                <a:lnTo>
                  <a:pt x="1775" y="423"/>
                </a:lnTo>
                <a:lnTo>
                  <a:pt x="1783" y="395"/>
                </a:lnTo>
                <a:lnTo>
                  <a:pt x="1792" y="366"/>
                </a:lnTo>
                <a:lnTo>
                  <a:pt x="1801" y="339"/>
                </a:lnTo>
                <a:lnTo>
                  <a:pt x="1778" y="321"/>
                </a:lnTo>
                <a:lnTo>
                  <a:pt x="1754" y="303"/>
                </a:lnTo>
                <a:lnTo>
                  <a:pt x="1731" y="287"/>
                </a:lnTo>
                <a:lnTo>
                  <a:pt x="1708" y="269"/>
                </a:lnTo>
                <a:lnTo>
                  <a:pt x="1736" y="269"/>
                </a:lnTo>
                <a:lnTo>
                  <a:pt x="1766" y="269"/>
                </a:lnTo>
                <a:lnTo>
                  <a:pt x="1794" y="269"/>
                </a:lnTo>
                <a:lnTo>
                  <a:pt x="1824" y="268"/>
                </a:lnTo>
                <a:lnTo>
                  <a:pt x="1833" y="240"/>
                </a:lnTo>
                <a:lnTo>
                  <a:pt x="1843" y="213"/>
                </a:lnTo>
                <a:lnTo>
                  <a:pt x="1851" y="185"/>
                </a:lnTo>
                <a:lnTo>
                  <a:pt x="1860" y="156"/>
                </a:lnTo>
                <a:close/>
                <a:moveTo>
                  <a:pt x="2277" y="1712"/>
                </a:moveTo>
                <a:lnTo>
                  <a:pt x="2285" y="1740"/>
                </a:lnTo>
                <a:lnTo>
                  <a:pt x="2294" y="1767"/>
                </a:lnTo>
                <a:lnTo>
                  <a:pt x="2304" y="1795"/>
                </a:lnTo>
                <a:lnTo>
                  <a:pt x="2313" y="1824"/>
                </a:lnTo>
                <a:lnTo>
                  <a:pt x="2342" y="1824"/>
                </a:lnTo>
                <a:lnTo>
                  <a:pt x="2371" y="1824"/>
                </a:lnTo>
                <a:lnTo>
                  <a:pt x="2400" y="1824"/>
                </a:lnTo>
                <a:lnTo>
                  <a:pt x="2428" y="1824"/>
                </a:lnTo>
                <a:lnTo>
                  <a:pt x="2406" y="1841"/>
                </a:lnTo>
                <a:lnTo>
                  <a:pt x="2383" y="1859"/>
                </a:lnTo>
                <a:lnTo>
                  <a:pt x="2359" y="1876"/>
                </a:lnTo>
                <a:lnTo>
                  <a:pt x="2336" y="1893"/>
                </a:lnTo>
                <a:lnTo>
                  <a:pt x="2344" y="1921"/>
                </a:lnTo>
                <a:lnTo>
                  <a:pt x="2353" y="1950"/>
                </a:lnTo>
                <a:lnTo>
                  <a:pt x="2362" y="1977"/>
                </a:lnTo>
                <a:lnTo>
                  <a:pt x="2371" y="2005"/>
                </a:lnTo>
                <a:lnTo>
                  <a:pt x="2346" y="1988"/>
                </a:lnTo>
                <a:lnTo>
                  <a:pt x="2324" y="1971"/>
                </a:lnTo>
                <a:lnTo>
                  <a:pt x="2299" y="1954"/>
                </a:lnTo>
                <a:lnTo>
                  <a:pt x="2277" y="1936"/>
                </a:lnTo>
                <a:lnTo>
                  <a:pt x="2252" y="1954"/>
                </a:lnTo>
                <a:lnTo>
                  <a:pt x="2228" y="1971"/>
                </a:lnTo>
                <a:lnTo>
                  <a:pt x="2205" y="1988"/>
                </a:lnTo>
                <a:lnTo>
                  <a:pt x="2181" y="2005"/>
                </a:lnTo>
                <a:lnTo>
                  <a:pt x="2190" y="1977"/>
                </a:lnTo>
                <a:lnTo>
                  <a:pt x="2199" y="1950"/>
                </a:lnTo>
                <a:lnTo>
                  <a:pt x="2209" y="1921"/>
                </a:lnTo>
                <a:lnTo>
                  <a:pt x="2217" y="1893"/>
                </a:lnTo>
                <a:lnTo>
                  <a:pt x="2193" y="1876"/>
                </a:lnTo>
                <a:lnTo>
                  <a:pt x="2170" y="1859"/>
                </a:lnTo>
                <a:lnTo>
                  <a:pt x="2146" y="1841"/>
                </a:lnTo>
                <a:lnTo>
                  <a:pt x="2123" y="1824"/>
                </a:lnTo>
                <a:lnTo>
                  <a:pt x="2153" y="1824"/>
                </a:lnTo>
                <a:lnTo>
                  <a:pt x="2181" y="1824"/>
                </a:lnTo>
                <a:lnTo>
                  <a:pt x="2211" y="1824"/>
                </a:lnTo>
                <a:lnTo>
                  <a:pt x="2239" y="1824"/>
                </a:lnTo>
                <a:lnTo>
                  <a:pt x="2249" y="1795"/>
                </a:lnTo>
                <a:lnTo>
                  <a:pt x="2258" y="1767"/>
                </a:lnTo>
                <a:lnTo>
                  <a:pt x="2267" y="1740"/>
                </a:lnTo>
                <a:lnTo>
                  <a:pt x="2277" y="1712"/>
                </a:lnTo>
                <a:close/>
                <a:moveTo>
                  <a:pt x="2430" y="1138"/>
                </a:moveTo>
                <a:lnTo>
                  <a:pt x="2438" y="1165"/>
                </a:lnTo>
                <a:lnTo>
                  <a:pt x="2447" y="1193"/>
                </a:lnTo>
                <a:lnTo>
                  <a:pt x="2457" y="1220"/>
                </a:lnTo>
                <a:lnTo>
                  <a:pt x="2466" y="1249"/>
                </a:lnTo>
                <a:lnTo>
                  <a:pt x="2495" y="1249"/>
                </a:lnTo>
                <a:lnTo>
                  <a:pt x="2524" y="1249"/>
                </a:lnTo>
                <a:lnTo>
                  <a:pt x="2553" y="1249"/>
                </a:lnTo>
                <a:lnTo>
                  <a:pt x="2582" y="1249"/>
                </a:lnTo>
                <a:lnTo>
                  <a:pt x="2559" y="1267"/>
                </a:lnTo>
                <a:lnTo>
                  <a:pt x="2536" y="1284"/>
                </a:lnTo>
                <a:lnTo>
                  <a:pt x="2512" y="1301"/>
                </a:lnTo>
                <a:lnTo>
                  <a:pt x="2489" y="1319"/>
                </a:lnTo>
                <a:lnTo>
                  <a:pt x="2497" y="1346"/>
                </a:lnTo>
                <a:lnTo>
                  <a:pt x="2506" y="1375"/>
                </a:lnTo>
                <a:lnTo>
                  <a:pt x="2515" y="1403"/>
                </a:lnTo>
                <a:lnTo>
                  <a:pt x="2524" y="1430"/>
                </a:lnTo>
                <a:lnTo>
                  <a:pt x="2501" y="1414"/>
                </a:lnTo>
                <a:lnTo>
                  <a:pt x="2477" y="1396"/>
                </a:lnTo>
                <a:lnTo>
                  <a:pt x="2453" y="1379"/>
                </a:lnTo>
                <a:lnTo>
                  <a:pt x="2430" y="1362"/>
                </a:lnTo>
                <a:lnTo>
                  <a:pt x="2406" y="1379"/>
                </a:lnTo>
                <a:lnTo>
                  <a:pt x="2383" y="1396"/>
                </a:lnTo>
                <a:lnTo>
                  <a:pt x="2359" y="1414"/>
                </a:lnTo>
                <a:lnTo>
                  <a:pt x="2334" y="1430"/>
                </a:lnTo>
                <a:lnTo>
                  <a:pt x="2344" y="1403"/>
                </a:lnTo>
                <a:lnTo>
                  <a:pt x="2353" y="1375"/>
                </a:lnTo>
                <a:lnTo>
                  <a:pt x="2362" y="1346"/>
                </a:lnTo>
                <a:lnTo>
                  <a:pt x="2371" y="1319"/>
                </a:lnTo>
                <a:lnTo>
                  <a:pt x="2346" y="1301"/>
                </a:lnTo>
                <a:lnTo>
                  <a:pt x="2324" y="1284"/>
                </a:lnTo>
                <a:lnTo>
                  <a:pt x="2299" y="1267"/>
                </a:lnTo>
                <a:lnTo>
                  <a:pt x="2277" y="1249"/>
                </a:lnTo>
                <a:lnTo>
                  <a:pt x="2306" y="1249"/>
                </a:lnTo>
                <a:lnTo>
                  <a:pt x="2334" y="1249"/>
                </a:lnTo>
                <a:lnTo>
                  <a:pt x="2364" y="1249"/>
                </a:lnTo>
                <a:lnTo>
                  <a:pt x="2392" y="1249"/>
                </a:lnTo>
                <a:lnTo>
                  <a:pt x="2402" y="1220"/>
                </a:lnTo>
                <a:lnTo>
                  <a:pt x="2411" y="1193"/>
                </a:lnTo>
                <a:lnTo>
                  <a:pt x="2420" y="1165"/>
                </a:lnTo>
                <a:lnTo>
                  <a:pt x="2430" y="1138"/>
                </a:lnTo>
                <a:close/>
                <a:moveTo>
                  <a:pt x="2277" y="563"/>
                </a:moveTo>
                <a:lnTo>
                  <a:pt x="2285" y="591"/>
                </a:lnTo>
                <a:lnTo>
                  <a:pt x="2294" y="618"/>
                </a:lnTo>
                <a:lnTo>
                  <a:pt x="2304" y="646"/>
                </a:lnTo>
                <a:lnTo>
                  <a:pt x="2313" y="673"/>
                </a:lnTo>
                <a:lnTo>
                  <a:pt x="2342" y="675"/>
                </a:lnTo>
                <a:lnTo>
                  <a:pt x="2371" y="675"/>
                </a:lnTo>
                <a:lnTo>
                  <a:pt x="2400" y="675"/>
                </a:lnTo>
                <a:lnTo>
                  <a:pt x="2428" y="675"/>
                </a:lnTo>
                <a:lnTo>
                  <a:pt x="2406" y="692"/>
                </a:lnTo>
                <a:lnTo>
                  <a:pt x="2383" y="709"/>
                </a:lnTo>
                <a:lnTo>
                  <a:pt x="2359" y="727"/>
                </a:lnTo>
                <a:lnTo>
                  <a:pt x="2336" y="744"/>
                </a:lnTo>
                <a:lnTo>
                  <a:pt x="2344" y="772"/>
                </a:lnTo>
                <a:lnTo>
                  <a:pt x="2353" y="801"/>
                </a:lnTo>
                <a:lnTo>
                  <a:pt x="2362" y="828"/>
                </a:lnTo>
                <a:lnTo>
                  <a:pt x="2371" y="856"/>
                </a:lnTo>
                <a:lnTo>
                  <a:pt x="2346" y="839"/>
                </a:lnTo>
                <a:lnTo>
                  <a:pt x="2324" y="822"/>
                </a:lnTo>
                <a:lnTo>
                  <a:pt x="2299" y="805"/>
                </a:lnTo>
                <a:lnTo>
                  <a:pt x="2277" y="787"/>
                </a:lnTo>
                <a:lnTo>
                  <a:pt x="2252" y="805"/>
                </a:lnTo>
                <a:lnTo>
                  <a:pt x="2228" y="822"/>
                </a:lnTo>
                <a:lnTo>
                  <a:pt x="2205" y="839"/>
                </a:lnTo>
                <a:lnTo>
                  <a:pt x="2181" y="856"/>
                </a:lnTo>
                <a:lnTo>
                  <a:pt x="2190" y="828"/>
                </a:lnTo>
                <a:lnTo>
                  <a:pt x="2199" y="801"/>
                </a:lnTo>
                <a:lnTo>
                  <a:pt x="2209" y="772"/>
                </a:lnTo>
                <a:lnTo>
                  <a:pt x="2217" y="744"/>
                </a:lnTo>
                <a:lnTo>
                  <a:pt x="2193" y="727"/>
                </a:lnTo>
                <a:lnTo>
                  <a:pt x="2170" y="709"/>
                </a:lnTo>
                <a:lnTo>
                  <a:pt x="2146" y="692"/>
                </a:lnTo>
                <a:lnTo>
                  <a:pt x="2123" y="675"/>
                </a:lnTo>
                <a:lnTo>
                  <a:pt x="2153" y="675"/>
                </a:lnTo>
                <a:lnTo>
                  <a:pt x="2181" y="675"/>
                </a:lnTo>
                <a:lnTo>
                  <a:pt x="2211" y="675"/>
                </a:lnTo>
                <a:lnTo>
                  <a:pt x="2239" y="673"/>
                </a:lnTo>
                <a:lnTo>
                  <a:pt x="2249" y="646"/>
                </a:lnTo>
                <a:lnTo>
                  <a:pt x="2258" y="618"/>
                </a:lnTo>
                <a:lnTo>
                  <a:pt x="2267" y="591"/>
                </a:lnTo>
                <a:lnTo>
                  <a:pt x="2277" y="563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Európai Unió szervezeti felépít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1880" y="3886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öntéshozatali szerv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Bizott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Unió Tanác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Parl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Bíró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ámvevős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yéb intéz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égiók Bizottság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zdasági és Szociális Bizott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Beruházási B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Központi Ban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Ombud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rmányközi szerv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Unió Tanác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szterek Tanác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Taná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ációs szerv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Parl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Bizott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Bíró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Számvevős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zzai szerződ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7524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001. február 2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éhány tagállam mandátumának alakulása a 27 tagú Európa Parlamentb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057400" y="3657600"/>
          <a:ext cx="6705720" cy="2815920"/>
        </p:xfrm>
        <a:graphic>
          <a:graphicData uri="http://schemas.openxmlformats.org/drawingml/2006/table">
            <a:tbl>
              <a:tblPr/>
              <a:tblGrid>
                <a:gridCol w="3353040"/>
                <a:gridCol w="3352680"/>
              </a:tblGrid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sz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dát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émetorsz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sült Királys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yelorsz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yarorsz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52480" y="1981080"/>
          <a:ext cx="7162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7162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6:15:54Z</dcterms:created>
  <dc:creator>.</dc:creator>
  <dc:description/>
  <dc:language>en-US</dc:language>
  <cp:lastModifiedBy>.</cp:lastModifiedBy>
  <dcterms:modified xsi:type="dcterms:W3CDTF">2003-05-25T20:59:49Z</dcterms:modified>
  <cp:revision>10</cp:revision>
  <dc:subject/>
  <dc:title>Az Európai Unió szervezeti felépítése</dc:title>
</cp:coreProperties>
</file>