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2788-0241-4CC5-9010-43D4234D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782-E95C-4579-88D4-56D66429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847-DFBB-4A4E-89E2-93DD7386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412-A93B-4698-B787-D922701F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564-0570-4BAF-B1A1-EAB95488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191-8114-4FCE-9A18-72B73891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2E0-5C07-4FDD-8AFF-5A2A26E6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AD9-7CC6-49FF-9E27-2AA3869C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E87-5109-4F4D-A49D-A690CEE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B80-3ADD-48B5-98A9-397CA33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24E-6FC1-4203-80F9-557B55FA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122-BDF7-40ED-8437-E338304F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863-D8B4-4971-803B-67236D5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CA27-00AB-4C2B-B29F-2E66DE5BC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a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.</dc:creator>
  <dc:description/>
  <dc:language>en-US</dc:language>
  <cp:lastModifiedBy>.</cp:lastModifiedBy>
  <dcterms:modified xsi:type="dcterms:W3CDTF">2003-05-25T21:02:02Z</dcterms:modified>
  <cp:revision>7</cp:revision>
  <dc:subject/>
  <dc:title>Minőségbiztosítás</dc:title>
</cp:coreProperties>
</file>