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05400" y="749880"/>
            <a:ext cx="4934880" cy="370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688640"/>
            <a:ext cx="53967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54000" y="763560"/>
            <a:ext cx="4873680" cy="365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z a jegyzet helye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608-FF41-4684-8FF8-B36ADDAC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6DD-C101-4298-B46F-FEFC2F0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BBB-DE38-4F62-9410-76DF1650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67C-FF2D-43DB-8786-3CF35802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08C-7DF0-4077-9ACA-F768DEF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012-0FC4-4288-BFD0-87D8B8C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AE7-48C9-44A6-930C-A1CFCB04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0AA-B13F-4906-96CC-6C73C67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E9D-C60D-4DCB-8296-DDD12395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5CE-B054-4C14-B0EF-F61F638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754-978C-49AB-814D-382066F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791-4157-49DC-B81E-53C8C3D1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B18-957B-449B-9FC6-E96EE752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120" y="324000"/>
            <a:ext cx="8423280" cy="621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766960"/>
            <a:ext cx="152280" cy="3027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819520"/>
            <a:ext cx="152640" cy="259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267080"/>
            <a:ext cx="762120" cy="304920"/>
          </a:xfrm>
          <a:prstGeom prst="rightArrow">
            <a:avLst>
              <a:gd name="adj1" fmla="val 50000"/>
              <a:gd name="adj2" fmla="val 12502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181480"/>
            <a:ext cx="762120" cy="304920"/>
          </a:xfrm>
          <a:prstGeom prst="rightArrow">
            <a:avLst>
              <a:gd name="adj1" fmla="val 50000"/>
              <a:gd name="adj2" fmla="val 12502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" y="463680"/>
            <a:ext cx="7912080" cy="1130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projekt megvalósításához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vasolt kép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73160" y="2292480"/>
            <a:ext cx="295920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olgált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1640" y="2292480"/>
            <a:ext cx="250200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gyf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9840" y="2825640"/>
            <a:ext cx="2425680" cy="12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v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vatal városi intézmény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66680" algn="ctr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 a Hivatal irányítású városi intézmény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080" y="2825640"/>
            <a:ext cx="1892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66680" indent="-16668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ossá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9840" y="1606680"/>
            <a:ext cx="749520" cy="6728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0080" y="1606680"/>
            <a:ext cx="749160" cy="6728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9840" y="427356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ámítógépes alap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9840" y="5187960"/>
            <a:ext cx="242568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Ügyintézői felkész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809880"/>
            <a:ext cx="761760" cy="304920"/>
          </a:xfrm>
          <a:prstGeom prst="rightArrow">
            <a:avLst>
              <a:gd name="adj1" fmla="val 50000"/>
              <a:gd name="adj2" fmla="val 12496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724280"/>
            <a:ext cx="761760" cy="304920"/>
          </a:xfrm>
          <a:prstGeom prst="rightArrow">
            <a:avLst>
              <a:gd name="adj1" fmla="val 50000"/>
              <a:gd name="adj2" fmla="val 12496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2360" y="381636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2360" y="473076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gényfelmé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5562720"/>
            <a:ext cx="761760" cy="304560"/>
          </a:xfrm>
          <a:prstGeom prst="rightArrow">
            <a:avLst>
              <a:gd name="adj1" fmla="val 50000"/>
              <a:gd name="adj2" fmla="val 12511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02360" y="5568840"/>
            <a:ext cx="2120760" cy="368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ávoktat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9F6-0703-40A3-A1F5-89F756F961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3720" y="1200240"/>
            <a:ext cx="203040" cy="474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5200" y="690480"/>
            <a:ext cx="5775120" cy="61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ítógépes alap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5240" y="22860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5240" y="29718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59080" y="22906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 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97760" y="25146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29764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ációs rendszer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7760" y="32004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36622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övegszerkesz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97760" y="38862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9080" y="43480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áblázat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7760" y="45720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59080" y="50338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álózati alapismere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97760" y="52578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59080" y="5719680"/>
            <a:ext cx="3235320" cy="276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és level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97760" y="5943600"/>
            <a:ext cx="711000" cy="17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35240" y="36576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5240" y="434340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5240" y="508644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35240" y="5772240"/>
            <a:ext cx="1015920" cy="228600"/>
          </a:xfrm>
          <a:prstGeom prst="rightArrow">
            <a:avLst>
              <a:gd name="adj1" fmla="val 50000"/>
              <a:gd name="adj2" fmla="val 2222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C4C-0AD7-4A03-815B-96ECD3F14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2720" y="3193920"/>
            <a:ext cx="6118560" cy="47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7BB-A5B9-4284-98B7-EF347D4EB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07:30:39Z</dcterms:created>
  <dc:creator/>
  <dc:description/>
  <dc:language>en-US</dc:language>
  <cp:lastModifiedBy>.</cp:lastModifiedBy>
  <cp:lastPrinted>1998-07-03T10:33:05Z</cp:lastPrinted>
  <dcterms:modified xsi:type="dcterms:W3CDTF">2003-05-25T21:16:22Z</dcterms:modified>
  <cp:revision>22</cp:revision>
  <dc:subject/>
  <dc:title>PowerPoint bemutató</dc:title>
</cp:coreProperties>
</file>