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C10-140B-49C1-9A99-C70C66F6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BE3-BCA3-4D40-8BEA-2F667444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F40-CD06-4E74-93B6-91624FF2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8B0-9B5D-46C8-9962-DA354597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5AD-A3EC-49A8-AEC4-294E1D74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964-A4D5-4B01-A5B6-10D2E4C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A60-8F21-49C7-9766-B9AED756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4CC-1795-4138-925F-FCC5ED8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328-3445-40BB-A836-934947C1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D48-27CD-4908-8331-95B64B7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E65-297B-421D-900B-6A06E33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48F-116F-4F6A-B488-E1A8D99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5BC-ED4E-4212-A0B5-B41EE409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24000"/>
            <a:ext cx="6210000" cy="849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600200"/>
            <a:ext cx="152280" cy="6324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01760" y="920880"/>
            <a:ext cx="4330800" cy="82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Ügyintézői felkész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0481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9625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2901960"/>
            <a:ext cx="2425680" cy="673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-ROM adatbáziso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zel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3526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44760" y="39686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ezési ismeret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42670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44760" y="48830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ktronikus levelez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1814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760" y="57974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zentá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60958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44760" y="67118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mmunikációs ismeret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70102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4760" y="76262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oldalak aktualizál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79246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48769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7913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6781680"/>
            <a:ext cx="761760" cy="304920"/>
          </a:xfrm>
          <a:prstGeom prst="rightArrow">
            <a:avLst>
              <a:gd name="adj1" fmla="val 50000"/>
              <a:gd name="adj2" fmla="val 1249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7696080"/>
            <a:ext cx="761760" cy="304920"/>
          </a:xfrm>
          <a:prstGeom prst="rightArrow">
            <a:avLst>
              <a:gd name="adj1" fmla="val 50000"/>
              <a:gd name="adj2" fmla="val 1249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324000"/>
            <a:ext cx="6210000" cy="849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600200"/>
            <a:ext cx="152280" cy="6324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920880"/>
            <a:ext cx="4330800" cy="82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30481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39625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4760" y="3048120"/>
            <a:ext cx="2425680" cy="380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3526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4760" y="39686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42670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4760" y="48830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51814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44760" y="57974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60958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67118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70102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4760" y="762624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79246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8769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791320"/>
            <a:ext cx="761760" cy="304560"/>
          </a:xfrm>
          <a:prstGeom prst="rightArrow">
            <a:avLst>
              <a:gd name="adj1" fmla="val 50000"/>
              <a:gd name="adj2" fmla="val 1250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781680"/>
            <a:ext cx="761760" cy="304920"/>
          </a:xfrm>
          <a:prstGeom prst="rightArrow">
            <a:avLst>
              <a:gd name="adj1" fmla="val 50000"/>
              <a:gd name="adj2" fmla="val 1249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7696080"/>
            <a:ext cx="761760" cy="304920"/>
          </a:xfrm>
          <a:prstGeom prst="rightArrow">
            <a:avLst>
              <a:gd name="adj1" fmla="val 50000"/>
              <a:gd name="adj2" fmla="val 1249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07:55:32Z</dcterms:created>
  <dc:creator/>
  <dc:description/>
  <dc:language>en-US</dc:language>
  <cp:lastModifiedBy>.</cp:lastModifiedBy>
  <cp:lastPrinted>1998-07-03T08:52:34Z</cp:lastPrinted>
  <dcterms:modified xsi:type="dcterms:W3CDTF">2003-03-28T22:56:42Z</dcterms:modified>
  <cp:revision>6</cp:revision>
  <dc:subject/>
  <dc:title>PowerPoint bemutató</dc:title>
</cp:coreProperties>
</file>