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05400" y="749880"/>
            <a:ext cx="4934880" cy="370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688640"/>
            <a:ext cx="53967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54000" y="763560"/>
            <a:ext cx="4873680" cy="3654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z a jegyzet helye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449-3FE5-42A6-BA15-5E3D3BA4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D9D-649A-4685-98BA-D564BEAD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8B5-E9FC-4011-8886-74C9F633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08B-6616-4D04-AC5B-03336379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C82-164D-4887-B7FA-91DE1BE3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A90-103C-49F3-99D0-F229C78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9E2-5DF8-42CC-B13A-461560CA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FC0-D7AC-46F5-894F-86DDFF2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0CC-F10B-4B7C-8D06-F7395AB9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771-20F4-443E-8FDC-B8FF7F8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B32-1AF5-4A46-9D99-077BB0B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58F-5D45-439F-B749-DCE2330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6919-ECA5-4871-912A-0F46BE98A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7120" y="324000"/>
            <a:ext cx="8423280" cy="621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766960"/>
            <a:ext cx="152280" cy="3027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819520"/>
            <a:ext cx="152640" cy="259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267080"/>
            <a:ext cx="762120" cy="304920"/>
          </a:xfrm>
          <a:prstGeom prst="rightArrow">
            <a:avLst>
              <a:gd name="adj1" fmla="val 50000"/>
              <a:gd name="adj2" fmla="val 12502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181480"/>
            <a:ext cx="762120" cy="304920"/>
          </a:xfrm>
          <a:prstGeom prst="rightArrow">
            <a:avLst>
              <a:gd name="adj1" fmla="val 50000"/>
              <a:gd name="adj2" fmla="val 12502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960" y="463680"/>
            <a:ext cx="7912080" cy="1130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JEKT MEGVALÓSÍTÁSÁHOZ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OLT KÉP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73160" y="2292480"/>
            <a:ext cx="2959200" cy="596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olgált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1640" y="2292480"/>
            <a:ext cx="2502000" cy="596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gyf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9840" y="2825640"/>
            <a:ext cx="2425680" cy="12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marL="227160" indent="-166680" algn="ctr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v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66680" algn="ctr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vatal városi intézmény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66680" algn="ctr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 a Hivatal irányítású városi intézmény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0080" y="2825640"/>
            <a:ext cx="1892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66680" indent="-16668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ossá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9840" y="1606680"/>
            <a:ext cx="749520" cy="6728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0080" y="1606680"/>
            <a:ext cx="749160" cy="6728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9840" y="427356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zámítógépes alap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9840" y="518796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Ügyintézői felkész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809880"/>
            <a:ext cx="761760" cy="304920"/>
          </a:xfrm>
          <a:prstGeom prst="rightArrow">
            <a:avLst>
              <a:gd name="adj1" fmla="val 50000"/>
              <a:gd name="adj2" fmla="val 12496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724280"/>
            <a:ext cx="761760" cy="304920"/>
          </a:xfrm>
          <a:prstGeom prst="rightArrow">
            <a:avLst>
              <a:gd name="adj1" fmla="val 50000"/>
              <a:gd name="adj2" fmla="val 12496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02360" y="3816360"/>
            <a:ext cx="21207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2360" y="4730760"/>
            <a:ext cx="21207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gényfelmé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5562720"/>
            <a:ext cx="761760" cy="304560"/>
          </a:xfrm>
          <a:prstGeom prst="rightArrow">
            <a:avLst>
              <a:gd name="adj1" fmla="val 50000"/>
              <a:gd name="adj2" fmla="val 12511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02360" y="5568840"/>
            <a:ext cx="21207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ávoktat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2C8-130A-47F8-A38F-A4C4D2144C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3720" y="1200240"/>
            <a:ext cx="203040" cy="474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5200" y="690480"/>
            <a:ext cx="5775120" cy="61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ámítógépes alap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5240" y="22860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5240" y="29718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59080" y="22906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 keze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97760" y="25146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29764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ációs rendszer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7760" y="32004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36622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zövegszerkesz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97760" y="38862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9080" y="43480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áblázatkeze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97760" y="45720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59080" y="50338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álózati alapismere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97760" y="52578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59080" y="57196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és levelez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97760" y="59436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35240" y="36576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35240" y="43434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35240" y="508644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35240" y="577224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566-1FE4-46C5-8A19-013CEF0118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2720" y="3193920"/>
            <a:ext cx="6118560" cy="47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BAA-3846-4D2F-BE67-1D4B6DC036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07:30:39Z</dcterms:created>
  <dc:creator/>
  <dc:description/>
  <dc:language>en-US</dc:language>
  <cp:lastModifiedBy>.</cp:lastModifiedBy>
  <cp:lastPrinted>1998-07-03T10:33:05Z</cp:lastPrinted>
  <dcterms:modified xsi:type="dcterms:W3CDTF">2003-05-25T21:20:29Z</dcterms:modified>
  <cp:revision>20</cp:revision>
  <dc:subject/>
  <dc:title>PowerPoint bemutató</dc:title>
</cp:coreProperties>
</file>