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E298-72A0-4DE5-9A70-B570BF142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1533-79AF-4E8A-92A2-553213D4C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FC73-5882-4B25-862F-B7261C4B8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2B21-0690-4C3A-9C97-B40B656D5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A0CC-7835-4597-8062-1F2A10C4D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14AA-8802-4BFB-95C4-0D5A1357B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91F9-EA0E-4740-A8CB-0475FDBDD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84F3-C99C-44EA-B7D5-E8952166E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7F0F-B7DF-4C49-89C5-858E69BF4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43B1-98C0-420F-BB4E-6BF46F9A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1604-6707-4E8D-B2DD-1B41CB3C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82FE-6CBA-4574-8630-516DC05F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A4C23-8848-440A-A8A4-11DE9A29D2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24000"/>
            <a:ext cx="6210000" cy="849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00200" y="1600200"/>
            <a:ext cx="152280" cy="6324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01760" y="920880"/>
            <a:ext cx="4330800" cy="8254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Ügyintézői felkészít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76520" y="3048120"/>
            <a:ext cx="761760" cy="304560"/>
          </a:xfrm>
          <a:prstGeom prst="rightArrow">
            <a:avLst>
              <a:gd name="adj1" fmla="val 50000"/>
              <a:gd name="adj2" fmla="val 125094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3962520"/>
            <a:ext cx="761760" cy="304560"/>
          </a:xfrm>
          <a:prstGeom prst="rightArrow">
            <a:avLst>
              <a:gd name="adj1" fmla="val 50000"/>
              <a:gd name="adj2" fmla="val 125094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2901960"/>
            <a:ext cx="2425680" cy="67320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D-ROM adatbázisok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ezelé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48320" y="3352680"/>
            <a:ext cx="53316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 ó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44760" y="3968640"/>
            <a:ext cx="2425680" cy="368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ezési ismerete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48320" y="4267080"/>
            <a:ext cx="53316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 ó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444760" y="4883040"/>
            <a:ext cx="2425680" cy="368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ektronikus levelez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48320" y="5181480"/>
            <a:ext cx="53316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ó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44760" y="5797440"/>
            <a:ext cx="2425680" cy="368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zentáci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48320" y="6095880"/>
            <a:ext cx="53316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 ó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44760" y="6711840"/>
            <a:ext cx="2425680" cy="368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ommunikációs ismerete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648320" y="7010280"/>
            <a:ext cx="53316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ó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44760" y="7626240"/>
            <a:ext cx="2425680" cy="368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oldalak aktualizálá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648320" y="7924680"/>
            <a:ext cx="53316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 ó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4876920"/>
            <a:ext cx="761760" cy="304560"/>
          </a:xfrm>
          <a:prstGeom prst="rightArrow">
            <a:avLst>
              <a:gd name="adj1" fmla="val 50000"/>
              <a:gd name="adj2" fmla="val 125094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5791320"/>
            <a:ext cx="761760" cy="304560"/>
          </a:xfrm>
          <a:prstGeom prst="rightArrow">
            <a:avLst>
              <a:gd name="adj1" fmla="val 50000"/>
              <a:gd name="adj2" fmla="val 125094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76520" y="6781680"/>
            <a:ext cx="761760" cy="304920"/>
          </a:xfrm>
          <a:prstGeom prst="rightArrow">
            <a:avLst>
              <a:gd name="adj1" fmla="val 50000"/>
              <a:gd name="adj2" fmla="val 124946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76520" y="7696080"/>
            <a:ext cx="761760" cy="304920"/>
          </a:xfrm>
          <a:prstGeom prst="rightArrow">
            <a:avLst>
              <a:gd name="adj1" fmla="val 50000"/>
              <a:gd name="adj2" fmla="val 124946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24000" y="324000"/>
            <a:ext cx="6210000" cy="849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1600200"/>
            <a:ext cx="152280" cy="6324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01760" y="920880"/>
            <a:ext cx="4330800" cy="8254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3048120"/>
            <a:ext cx="761760" cy="304560"/>
          </a:xfrm>
          <a:prstGeom prst="rightArrow">
            <a:avLst>
              <a:gd name="adj1" fmla="val 50000"/>
              <a:gd name="adj2" fmla="val 125094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76520" y="3962520"/>
            <a:ext cx="761760" cy="304560"/>
          </a:xfrm>
          <a:prstGeom prst="rightArrow">
            <a:avLst>
              <a:gd name="adj1" fmla="val 50000"/>
              <a:gd name="adj2" fmla="val 125094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44760" y="3048120"/>
            <a:ext cx="2425680" cy="3808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48320" y="3352680"/>
            <a:ext cx="53316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44760" y="3968640"/>
            <a:ext cx="2425680" cy="368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4267080"/>
            <a:ext cx="53316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44760" y="4883040"/>
            <a:ext cx="2425680" cy="368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648320" y="5181480"/>
            <a:ext cx="53316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44760" y="5797440"/>
            <a:ext cx="2425680" cy="368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48320" y="6095880"/>
            <a:ext cx="53316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444760" y="6711840"/>
            <a:ext cx="2425680" cy="368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48320" y="7010280"/>
            <a:ext cx="53316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44760" y="7626240"/>
            <a:ext cx="2425680" cy="368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48320" y="7924680"/>
            <a:ext cx="53316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76520" y="4876920"/>
            <a:ext cx="761760" cy="304560"/>
          </a:xfrm>
          <a:prstGeom prst="rightArrow">
            <a:avLst>
              <a:gd name="adj1" fmla="val 50000"/>
              <a:gd name="adj2" fmla="val 125094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76520" y="5791320"/>
            <a:ext cx="761760" cy="304560"/>
          </a:xfrm>
          <a:prstGeom prst="rightArrow">
            <a:avLst>
              <a:gd name="adj1" fmla="val 50000"/>
              <a:gd name="adj2" fmla="val 125094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76520" y="6781680"/>
            <a:ext cx="761760" cy="304920"/>
          </a:xfrm>
          <a:prstGeom prst="rightArrow">
            <a:avLst>
              <a:gd name="adj1" fmla="val 50000"/>
              <a:gd name="adj2" fmla="val 124946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76520" y="7696080"/>
            <a:ext cx="761760" cy="304920"/>
          </a:xfrm>
          <a:prstGeom prst="rightArrow">
            <a:avLst>
              <a:gd name="adj1" fmla="val 50000"/>
              <a:gd name="adj2" fmla="val 124946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3T07:55:32Z</dcterms:created>
  <dc:creator/>
  <dc:description/>
  <dc:language>en-US</dc:language>
  <cp:lastModifiedBy>.</cp:lastModifiedBy>
  <cp:lastPrinted>1998-07-03T08:52:34Z</cp:lastPrinted>
  <dcterms:modified xsi:type="dcterms:W3CDTF">2003-03-28T22:56:42Z</dcterms:modified>
  <cp:revision>6</cp:revision>
  <dc:subject/>
  <dc:title>PowerPoint bemutató</dc:title>
</cp:coreProperties>
</file>