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95D-43E2-4E38-8752-69B4338A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hérjetartalom 100 g ételre vonatkoztatott érté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59C-D1E2-4D60-92DF-5E384473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0D0-3F1D-402E-AF59-8BA0AE7F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665-BF91-459A-9825-181DF535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27C-B779-45D4-8CED-5EDC6FF7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315-EABA-4AD3-9B0B-1E16C7E2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D53-FCBA-477D-8EAD-419D922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D50-D1A2-429E-9AE8-CBF4C1F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8C6-D1EF-4D04-8056-EB01F168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4BB-62CE-48D6-903D-87780C0A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F58-C328-4A93-9166-E7A2828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E7C-09FC-47F8-A171-A54A8DD7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328-1D06-41F3-8D3F-158C07E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9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3DEE-7956-428E-924C-9023DBF3B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itaminok szerepe a táplálkozás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vitamin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-vit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3720" y="2209680"/>
            <a:ext cx="5562360" cy="32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 fogyasszu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91160" y="2333520"/>
            <a:ext cx="352440" cy="1800"/>
          </a:xfrm>
          <a:prstGeom prst="rect">
            <a:avLst/>
          </a:prstGeom>
          <a:solidFill>
            <a:srgbClr val="f9a0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2800" y="300996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6" y="0"/>
                </a:lnTo>
                <a:lnTo>
                  <a:pt x="0" y="0"/>
                </a:lnTo>
                <a:lnTo>
                  <a:pt x="12" y="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33960" y="3238560"/>
            <a:ext cx="972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0" y="6"/>
                </a:lnTo>
                <a:lnTo>
                  <a:pt x="0" y="12"/>
                </a:lnTo>
                <a:lnTo>
                  <a:pt x="6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152800"/>
            <a:ext cx="275436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04804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304812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95280" y="4343400"/>
            <a:ext cx="205740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58000" y="4191120"/>
            <a:ext cx="690480" cy="210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572000" y="5029200"/>
            <a:ext cx="16700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yümölcsök fehérje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hérjében gazdag 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úzacsí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onthéja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ójab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úr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hány étel fehérje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yümölcsök energiatartalma (100 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n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08:51:26Z</dcterms:created>
  <dc:creator>.</dc:creator>
  <dc:description/>
  <dc:language>en-US</dc:language>
  <cp:lastModifiedBy>.</cp:lastModifiedBy>
  <dcterms:modified xsi:type="dcterms:W3CDTF">2003-05-25T21:22:33Z</dcterms:modified>
  <cp:revision>9</cp:revision>
  <dc:subject/>
  <dc:title>A vitaminok szerepe a táplálkozásban</dc:title>
</cp:coreProperties>
</file>