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F928-D4FD-43D6-97E1-CA306FCFB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hérjetartalom 100 g ételre vonatkoztatott érté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E6FF-189D-4A3F-A835-72857D91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FEE2-7D48-4D0C-BD23-AC7D18E5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1299-B987-401F-A7DC-90806782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D99A-11FE-4388-ADD5-482F744D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00AF-C119-49CC-ABED-49144ED5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E7F0-4959-4AF8-AB5B-8F2927DC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8A4C-DB6A-430C-AC25-D410A826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C518-51A2-4934-A696-863B98BA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F2C6-1972-4819-A1AB-1AFD1976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DE4F-525D-4427-A404-E0A4BB48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03F0-6BEE-453A-B3BF-81219012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AC61-25F9-40A9-92D6-D8659FD1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199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647A-BCAC-4113-851E-DA1D28E85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vitaminok szerepe a táplálkozásb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-vita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-vitamin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-vita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-vita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vita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-vita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-vita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-vita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-vita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33720" y="2209680"/>
            <a:ext cx="5562360" cy="3276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t fogyasszun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91160" y="2333520"/>
            <a:ext cx="352440" cy="1800"/>
          </a:xfrm>
          <a:prstGeom prst="rect">
            <a:avLst/>
          </a:prstGeom>
          <a:solidFill>
            <a:srgbClr val="f9a0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62800" y="3009960"/>
            <a:ext cx="19080" cy="9360"/>
          </a:xfrm>
          <a:custGeom>
            <a:avLst/>
            <a:gdLst/>
            <a:ahLst/>
            <a:rect l="l" t="t" r="r" b="b"/>
            <a:pathLst>
              <a:path w="12" h="6">
                <a:moveTo>
                  <a:pt x="12" y="6"/>
                </a:moveTo>
                <a:lnTo>
                  <a:pt x="6" y="0"/>
                </a:lnTo>
                <a:lnTo>
                  <a:pt x="0" y="0"/>
                </a:lnTo>
                <a:lnTo>
                  <a:pt x="12" y="6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33960" y="3238560"/>
            <a:ext cx="9720" cy="19080"/>
          </a:xfrm>
          <a:custGeom>
            <a:avLst/>
            <a:gdLst/>
            <a:ahLst/>
            <a:rect l="l" t="t" r="r" b="b"/>
            <a:pathLst>
              <a:path w="6" h="12">
                <a:moveTo>
                  <a:pt x="6" y="0"/>
                </a:moveTo>
                <a:lnTo>
                  <a:pt x="0" y="6"/>
                </a:lnTo>
                <a:lnTo>
                  <a:pt x="0" y="12"/>
                </a:lnTo>
                <a:lnTo>
                  <a:pt x="6" y="0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2152800"/>
            <a:ext cx="2754360" cy="1276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2048040" cy="1619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114800" y="3048120"/>
            <a:ext cx="96840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295280" y="4343400"/>
            <a:ext cx="2057400" cy="1628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6858000" y="4191120"/>
            <a:ext cx="690480" cy="2100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4572000" y="5029200"/>
            <a:ext cx="167004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yümölcsök fehérjetartal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hérjében gazdag étel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úzacsí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onthéja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ú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ójab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jt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úr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éhány étel fehérjetartal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yümölcsök energiatartalma (100 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2209680"/>
          <a:ext cx="7772400" cy="36576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á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r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nny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9T08:51:26Z</dcterms:created>
  <dc:creator>.</dc:creator>
  <dc:description/>
  <dc:language>en-US</dc:language>
  <cp:lastModifiedBy>.</cp:lastModifiedBy>
  <dcterms:modified xsi:type="dcterms:W3CDTF">2003-05-25T21:23:21Z</dcterms:modified>
  <cp:revision>9</cp:revision>
  <dc:subject/>
  <dc:title>A vitaminok szerepe a táplálkozásban</dc:title>
</cp:coreProperties>
</file>