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FD5E-D85E-481D-80F5-8A9670C60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hérjetartalom 100 g ételre vonatkoztatott érté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7FD5-5383-4D69-ADAA-FA1DCD95D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3B1B-7529-424D-BA87-BF0316ED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F14D-DCB5-4947-945D-2DDAC7AF5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8C4B-6E0F-45D4-85BC-382ABB68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4F9F-5043-45B2-A6A8-B1EBA2DE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A2F3-6325-4A65-9FC0-91A1CC93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F6D8-6FDC-4D96-8859-C9168C7C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B21F-40E3-43A8-88E1-D1123A4D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A883-33BC-4CB1-BD97-904D0A50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0EE6-571A-4583-BA8F-73DAE519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6169-7494-4A51-8CF3-B407301C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0AE4-98D9-469F-BEB3-9A2792B5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2199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A891-9056-4E37-8D24-8349A69C9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vitaminok szerepe a táplálkozásb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-vita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-vitamin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-vita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-vita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vita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-vita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-vita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-vita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-vita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33720" y="2209680"/>
            <a:ext cx="5562360" cy="3276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 fogyasszun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91160" y="2333520"/>
            <a:ext cx="352440" cy="1800"/>
          </a:xfrm>
          <a:prstGeom prst="rect">
            <a:avLst/>
          </a:prstGeom>
          <a:solidFill>
            <a:srgbClr val="f9a0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62800" y="3009960"/>
            <a:ext cx="19080" cy="9360"/>
          </a:xfrm>
          <a:custGeom>
            <a:avLst/>
            <a:gdLst/>
            <a:ahLst/>
            <a:rect l="l" t="t" r="r" b="b"/>
            <a:pathLst>
              <a:path w="12" h="6">
                <a:moveTo>
                  <a:pt x="12" y="6"/>
                </a:moveTo>
                <a:lnTo>
                  <a:pt x="6" y="0"/>
                </a:lnTo>
                <a:lnTo>
                  <a:pt x="0" y="0"/>
                </a:lnTo>
                <a:lnTo>
                  <a:pt x="12" y="6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33960" y="3238560"/>
            <a:ext cx="9720" cy="19080"/>
          </a:xfrm>
          <a:custGeom>
            <a:avLst/>
            <a:gdLst/>
            <a:ahLst/>
            <a:rect l="l" t="t" r="r" b="b"/>
            <a:pathLst>
              <a:path w="6" h="12">
                <a:moveTo>
                  <a:pt x="6" y="0"/>
                </a:moveTo>
                <a:lnTo>
                  <a:pt x="0" y="6"/>
                </a:lnTo>
                <a:lnTo>
                  <a:pt x="0" y="12"/>
                </a:lnTo>
                <a:lnTo>
                  <a:pt x="6" y="0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2152800"/>
            <a:ext cx="2754360" cy="1276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1981080"/>
            <a:ext cx="2048040" cy="1619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114800" y="3048120"/>
            <a:ext cx="96840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295280" y="4343400"/>
            <a:ext cx="2057400" cy="1628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6858000" y="4191120"/>
            <a:ext cx="690480" cy="2100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4572000" y="5029200"/>
            <a:ext cx="167004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gyümölcsök fehérjetartal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hérjében gazdag étel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úzacsí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onthéjas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ús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l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zójab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jt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úr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éhány étel fehérjetartal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gyümölcsök energiatartalma (100 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85800" y="2209680"/>
          <a:ext cx="7772400" cy="36576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ná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tr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nny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9T08:51:26Z</dcterms:created>
  <dc:creator>.</dc:creator>
  <dc:description/>
  <dc:language>en-US</dc:language>
  <cp:lastModifiedBy>.</cp:lastModifiedBy>
  <dcterms:modified xsi:type="dcterms:W3CDTF">2003-05-25T21:29:32Z</dcterms:modified>
  <cp:revision>10</cp:revision>
  <dc:subject/>
  <dc:title>A vitaminok szerepe a táplálkozásban</dc:title>
</cp:coreProperties>
</file>