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DA1-2F78-486A-AA75-5D3214DF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A94-DA34-454A-A6BA-0FE0C0BD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192-319F-49D8-9340-09606262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223-C676-4924-B815-50991171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B2C-9D19-446C-BFBB-A0E6606B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6CE-16E5-4E33-97E1-F681E462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17C-FE27-46F7-96C7-88BAF0EA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966-D50A-4250-8419-673A64F5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AEF-D287-4116-A0A1-F555F44C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E49-70C7-42F7-80F3-D5FFB65A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7B3-713E-4E27-A656-AC50D31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223-E5C7-469F-A0D6-9F5AFEE5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8590-FE1C-413B-A447-9C1A76DD6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-2772360" y="3155040"/>
            <a:ext cx="685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XXX Videokölcsönz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XX Videokölcsönz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00805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0818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bankban" descr=""/>
          <p:cNvPicPr/>
          <p:nvPr/>
        </p:nvPicPr>
        <p:blipFill>
          <a:blip r:embed="rId1"/>
          <a:stretch/>
        </p:blipFill>
        <p:spPr>
          <a:xfrm>
            <a:off x="838080" y="4267080"/>
            <a:ext cx="285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.</cp:lastModifiedBy>
  <dcterms:modified xsi:type="dcterms:W3CDTF">2003-05-04T15:54:51Z</dcterms:modified>
  <cp:revision>12</cp:revision>
  <dc:subject/>
  <dc:title>XXX Videokölcsönző</dc:title>
</cp:coreProperties>
</file>