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ED9-7198-4116-A365-791E9B97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1C6-75AC-442C-B51C-5B7C855B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E5B-61C4-4B17-9971-E73B13FF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4DE-BE90-4481-9EBE-85E6484C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974-24E8-4C72-836B-201870FD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648-8CCE-4EDA-8EAF-71A4FBA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FDC-6864-445C-A9CA-AF919EB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635-43F8-4F1B-9A5B-32AB548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3FC-4B6B-41FF-82A9-81532E63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D51-C273-4841-A4C0-166D7CD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8F1-D9AE-47D4-A110-D7F5071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F72-7C03-4CBD-8FBE-3832016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5F76-9449-461C-A49D-883E537D3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00805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0818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.</cp:lastModifiedBy>
  <dcterms:modified xsi:type="dcterms:W3CDTF">2003-05-04T15:18:01Z</dcterms:modified>
  <cp:revision>9</cp:revision>
  <dc:subject/>
  <dc:title>XXX Videokölcsönző</dc:title>
</cp:coreProperties>
</file>