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3D5-83DF-4B12-B9B7-FC12AAEA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08E-382B-46D5-94F0-24AE5485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94A-B2CE-4B74-81F6-9AF91207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824-1D59-4781-BE1E-0685885F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249-6C06-4FCE-A140-F8AB8774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2E9-0971-46E7-AE19-198F0FBE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4BE-CDE5-487D-BE17-EADA0E7F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303-8ADD-47D9-94A8-E696F48D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672-34F4-4E1C-BE03-874A9958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EF0-DA69-4ADD-8728-86E4DC98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2CE-53E7-4233-8728-15DA97D2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939-9086-4A4B-8DDA-08219CBB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B73D-39AC-499E-B8A8-EF9616E49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ten vár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átia L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nando Meir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o L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eus Nachterga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u J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xandre Rodrig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ndro Firmino da H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5:22:01Z</dcterms:created>
  <dc:creator>.</dc:creator>
  <dc:description/>
  <dc:language>en-US</dc:language>
  <cp:lastModifiedBy>.</cp:lastModifiedBy>
  <dcterms:modified xsi:type="dcterms:W3CDTF">2003-05-04T15:24:43Z</dcterms:modified>
  <cp:revision>2</cp:revision>
  <dc:subject/>
  <dc:title>Isten városa</dc:title>
</cp:coreProperties>
</file>