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421-C72B-444E-8907-DD36405B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FC4-7B51-44AD-A774-846048B3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95A-0064-4D66-ADBC-6FAECB2A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215-DD49-4B59-AC90-902D8E6C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B91-C69C-4794-9275-693817AD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01E-FA01-4A80-90BF-2398F87C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F95-42B4-41FC-BAE7-2789EA06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485-8736-4D20-8897-39E5189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06F-6F52-4F58-962B-890D4F60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789-F01D-4662-8077-6634B986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F51-956E-4E24-8409-03400D9C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0CC-9E0C-4292-B45F-AFB9E86C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CFA-5281-4DC6-A8BB-595F39667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-2772360" y="3155040"/>
            <a:ext cx="685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XXX Videokölcsönz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XX Videokölcsönz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00805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0818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bankban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285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.</cp:lastModifiedBy>
  <dcterms:modified xsi:type="dcterms:W3CDTF">2003-05-04T15:54:51Z</dcterms:modified>
  <cp:revision>12</cp:revision>
  <dc:subject/>
  <dc:title>XXX Videokölcsönző</dc:title>
</cp:coreProperties>
</file>