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7BC-7D04-4CD4-84C5-FA06C33B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43F-5191-42B7-98F8-460CC52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3A5-7A63-4A29-9515-CC4AC92F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6E3-EDDD-4BFB-BBCC-BE7E964E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D2D-0E48-498C-923F-78406715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B26-9F3D-4E68-ADC6-1D9F94DC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9E9-53B1-4042-B36B-2E8A4B16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AED-5E50-4D8B-9729-C47816D5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03E-90BD-47DF-A28C-902DCE4F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EDD-3C66-443D-BBA8-00931F08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4B6-2D49-4899-BC4E-15ED10CA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34A-B388-4162-9F64-61DF236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1192-424D-45EB-BE75-2C2A83D6D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ten vár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átia L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nando Meir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o L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us Nachterga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u J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xandre Rodrig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ndro Firmino da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5:22:01Z</dcterms:created>
  <dc:creator>.</dc:creator>
  <dc:description/>
  <dc:language>en-US</dc:language>
  <cp:lastModifiedBy>.</cp:lastModifiedBy>
  <dcterms:modified xsi:type="dcterms:W3CDTF">2003-05-04T15:24:43Z</dcterms:modified>
  <cp:revision>2</cp:revision>
  <dc:subject/>
  <dc:title>Isten városa</dc:title>
</cp:coreProperties>
</file>