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5BD-B883-4A5D-9986-69AFC5A6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EDC-F4B3-40F1-8C12-E49BB70C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FAE-DB6B-497A-8E09-AAA8A07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7D6-9613-4B89-92AC-0E19996E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84C-923A-4596-86DC-718FB57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D4F-1EFC-4CBF-A0E5-14C737E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918-BB32-4545-9FE1-FCF53006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1AA-4279-4296-8D16-EA2E4BE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DAC-2445-4723-BD82-7E7188C8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54B-2C18-46DD-B09D-99AB907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99E-CBC1-437C-8983-C9BC13D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C40-C931-40DD-8B43-84CC1E1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38D-D939-460F-B8FA-32CF49334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00864_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26_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SO01038_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981080"/>
            <a:ext cx="838080" cy="83844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76720"/>
            <a:ext cx="838080" cy="83808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495680"/>
            <a:ext cx="838080" cy="83844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.</dc:creator>
  <dc:description/>
  <dc:language>en-US</dc:language>
  <cp:lastModifiedBy>.</cp:lastModifiedBy>
  <dcterms:modified xsi:type="dcterms:W3CDTF">2003-05-25T21:35:15Z</dcterms:modified>
  <cp:revision>12</cp:revision>
  <dc:subject/>
  <dc:title>Az időjárás</dc:title>
</cp:coreProperties>
</file>