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F21-9065-4247-A199-8BF53AB5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269-D056-4E81-8367-36E4BDC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8EF-129A-4631-9CB8-95C3F342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747-1F7D-4F13-8BE9-0FD810DD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A7A-06D8-4A4A-9186-5BD76278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E1C-0373-4272-97C1-3EA53222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338-6080-4F58-9B74-47F0E866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9B2-7516-4D06-8E85-DF9029F7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305-F57B-4A18-A23B-B8AF444D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BE4-06FA-4641-9C8E-AAD540B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5BA-B386-45B3-A45E-DD17363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A75-5B09-4271-8298-22CE60F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B0AF-17AC-4243-AC81-306CB03E5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00864_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2265480" cy="195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z időjár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A00826_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49868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SO01038_" descr=""/>
          <p:cNvPicPr/>
          <p:nvPr/>
        </p:nvPicPr>
        <p:blipFill>
          <a:blip r:embed="rId3"/>
          <a:stretch/>
        </p:blipFill>
        <p:spPr>
          <a:xfrm>
            <a:off x="3124080" y="3657600"/>
            <a:ext cx="16210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őjárás-jelentés készít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rés, adatgyűjt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tok értékelése, analizá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ltalános időjárás-jelentések elkész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40160" y="2387520"/>
            <a:ext cx="2209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46440" y="3632040"/>
            <a:ext cx="221004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876920"/>
            <a:ext cx="22100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981080"/>
            <a:ext cx="838080" cy="83844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276720"/>
            <a:ext cx="838080" cy="83808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495680"/>
            <a:ext cx="838080" cy="83844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mérés eszköz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színi mérőállom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ű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ádiósz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tlagos csapadékmennyisé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tlaghőmérséklet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40:41Z</dcterms:created>
  <dc:creator>.</dc:creator>
  <dc:description/>
  <dc:language>en-US</dc:language>
  <cp:lastModifiedBy>.</cp:lastModifiedBy>
  <dcterms:modified xsi:type="dcterms:W3CDTF">2003-05-04T18:39:38Z</dcterms:modified>
  <cp:revision>11</cp:revision>
  <dc:subject/>
  <dc:title>Az időjárás</dc:title>
</cp:coreProperties>
</file>