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972-4D0F-4612-9BA2-3CF1D679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792-3541-43BF-B5AC-281CBE99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BC3-69F1-42AD-994E-27D58E0D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D24-1812-4A23-8888-2A51D51E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1C4-98E8-4CCC-BAA7-8F3CC8B1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D0E-0AE7-4AE8-8CAF-523D1A48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EB6-0893-48FC-881C-AD85203B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801-039A-4783-8878-26FCD99C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1B8-22B0-4D09-98B0-8C37E85C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AE6-38F7-4723-8023-50F66B74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B74-BBDC-491D-B695-8A63E30D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DF7-3AB2-4214-9DA1-4B6B50F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7D7A-B995-475B-9A3A-47C76DD5B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LK01" descr=""/>
          <p:cNvPicPr/>
          <p:nvPr/>
        </p:nvPicPr>
        <p:blipFill>
          <a:blip r:embed="rId1"/>
          <a:stretch/>
        </p:blipFill>
        <p:spPr>
          <a:xfrm>
            <a:off x="449280" y="363600"/>
            <a:ext cx="824400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LK10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LK11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K12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LK13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LK14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LK15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LK16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LK17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LK18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LK19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LK02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LK20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LK21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LK22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LK23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LK24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LK25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LK26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LK27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LK28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LK29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LK03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LK30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LK31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LK32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LK33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LK34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LK35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LK36" descr=""/>
          <p:cNvPicPr/>
          <p:nvPr/>
        </p:nvPicPr>
        <p:blipFill>
          <a:blip r:embed="rId1"/>
          <a:stretch/>
        </p:blipFill>
        <p:spPr>
          <a:xfrm>
            <a:off x="442800" y="357120"/>
            <a:ext cx="825660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LK38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LK39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LK40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LK04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LK41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LK42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LK43" descr=""/>
          <p:cNvPicPr/>
          <p:nvPr/>
        </p:nvPicPr>
        <p:blipFill>
          <a:blip r:embed="rId1"/>
          <a:stretch/>
        </p:blipFill>
        <p:spPr>
          <a:xfrm>
            <a:off x="461880" y="455760"/>
            <a:ext cx="82184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LK44" descr=""/>
          <p:cNvPicPr/>
          <p:nvPr/>
        </p:nvPicPr>
        <p:blipFill>
          <a:blip r:embed="rId1"/>
          <a:stretch/>
        </p:blipFill>
        <p:spPr>
          <a:xfrm>
            <a:off x="461880" y="455760"/>
            <a:ext cx="82184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LK45" descr=""/>
          <p:cNvPicPr/>
          <p:nvPr/>
        </p:nvPicPr>
        <p:blipFill>
          <a:blip r:embed="rId1"/>
          <a:stretch/>
        </p:blipFill>
        <p:spPr>
          <a:xfrm>
            <a:off x="461880" y="455760"/>
            <a:ext cx="82184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LK46" descr=""/>
          <p:cNvPicPr/>
          <p:nvPr/>
        </p:nvPicPr>
        <p:blipFill>
          <a:blip r:embed="rId1"/>
          <a:stretch/>
        </p:blipFill>
        <p:spPr>
          <a:xfrm>
            <a:off x="461880" y="455760"/>
            <a:ext cx="82184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LK05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LK06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LK07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LK08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LK09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16:31:45Z</dcterms:created>
  <dc:creator>Rendszergazda</dc:creator>
  <dc:description/>
  <dc:language>en-US</dc:language>
  <cp:lastModifiedBy>Rendszergazda</cp:lastModifiedBy>
  <dcterms:modified xsi:type="dcterms:W3CDTF">2002-05-09T16:48:05Z</dcterms:modified>
  <cp:revision>4</cp:revision>
  <dc:subject/>
  <dc:title>Nincs diacím</dc:title>
</cp:coreProperties>
</file>